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0.xml.rels" ContentType="application/vnd.openxmlformats-package.relationships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png" ContentType="image/png"/>
  <Override PartName="/ppt/media/image21.png" ContentType="image/png"/>
  <Override PartName="/ppt/media/image10.wmf" ContentType="image/x-wmf"/>
  <Override PartName="/ppt/media/image2.png" ContentType="image/png"/>
  <Override PartName="/ppt/media/image25.png" ContentType="image/png"/>
  <Override PartName="/ppt/media/image3.png" ContentType="image/png"/>
  <Override PartName="/ppt/media/image11.wmf" ContentType="image/x-wmf"/>
  <Override PartName="/ppt/media/image26.png" ContentType="image/png"/>
  <Override PartName="/ppt/media/image6.wmf" ContentType="image/x-wmf"/>
  <Override PartName="/ppt/media/image7.wmf" ContentType="image/x-wmf"/>
  <Override PartName="/ppt/media/image12.wmf" ContentType="image/x-wmf"/>
  <Override PartName="/ppt/media/image28.png" ContentType="image/png"/>
  <Override PartName="/ppt/media/image30.png" ContentType="image/png"/>
  <Override PartName="/ppt/media/image13.wmf" ContentType="image/x-wmf"/>
  <Override PartName="/ppt/media/image9.wmf" ContentType="image/x-wmf"/>
  <Override PartName="/ppt/media/image8.wmf" ContentType="image/x-wmf"/>
  <Override PartName="/ppt/media/image33.jpeg" ContentType="image/jpeg"/>
  <Override PartName="/ppt/media/image5.wmf" ContentType="image/x-wmf"/>
  <Override PartName="/ppt/media/image4.wmf" ContentType="image/x-wmf"/>
  <Override PartName="/ppt/media/image27.wmf" ContentType="image/x-wmf"/>
  <Override PartName="/ppt/media/image14.wmf" ContentType="image/x-wmf"/>
  <Override PartName="/ppt/media/image29.png" ContentType="image/png"/>
  <Override PartName="/ppt/media/image31.png" ContentType="image/png"/>
  <Override PartName="/ppt/media/image1.png" ContentType="image/png"/>
  <Override PartName="/ppt/media/image15.wmf" ContentType="image/x-wmf"/>
  <Override PartName="/ppt/media/image16.wmf" ContentType="image/x-wmf"/>
  <Override PartName="/ppt/media/image32.jpeg" ContentType="image/jpe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2.xlsx" ContentType="application/vnd.openxmlformats-officedocument.spreadsheetml.shee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1.xlsx" ContentType="application/vnd.openxmlformats-officedocument.spreadsheetml.shee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AFDFD-5ED8-4517-855F-CBF224F96C7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askdjsao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8EB10-462B-4F39-9E99-544C3B8EB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99C55-CBD4-40CE-BA6F-CFD99146B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AE538-E49C-4B5B-86C5-CC8A630AB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820D6-0290-4C56-BF42-93C48E2FA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2D1C9-874C-46CE-9BE6-274BB31BE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7BC8B-756C-41BF-89A2-B7470B5BD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ED3ED-1D4A-407A-B76C-D70E396CB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0764E-BD5C-4C70-9687-4E880C11E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86A8A-CA48-4015-B34C-AA2EBF336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0FC94-D164-4CDF-BF69-FD2973A2A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28FBA-E89A-4599-B92D-AFCEB6A67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A5329-11DE-4F07-BBDD-E60CF296E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50017-2A10-4105-9D6E-3FEEA9BFAED5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package" Target="../embeddings/oleObject2.xlsx"/><Relationship Id="rId6" Type="http://schemas.openxmlformats.org/officeDocument/2006/relationships/image" Target="../media/image13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14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15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16.wmf"/><Relationship Id="rId1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9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20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23.wmf"/><Relationship Id="rId5" Type="http://schemas.openxmlformats.org/officeDocument/2006/relationships/package" Target="../embeddings/oleObject2.xlsx"/><Relationship Id="rId6" Type="http://schemas.openxmlformats.org/officeDocument/2006/relationships/image" Target="../media/image24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5.png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6.png"/><Relationship Id="rId1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27.wm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8.png"/><Relationship Id="rId3" Type="http://schemas.openxmlformats.org/officeDocument/2006/relationships/image" Target="../media/image28.png"/><Relationship Id="rId4" Type="http://schemas.openxmlformats.org/officeDocument/2006/relationships/image" Target="../media/image28.png"/><Relationship Id="rId5" Type="http://schemas.openxmlformats.org/officeDocument/2006/relationships/image" Target="../media/image28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1.png"/><Relationship Id="rId6" Type="http://schemas.openxmlformats.org/officeDocument/2006/relationships/image" Target="../media/image32.jpeg"/><Relationship Id="rId7" Type="http://schemas.openxmlformats.org/officeDocument/2006/relationships/image" Target="../media/image33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6.wmf"/><Relationship Id="rId6" Type="http://schemas.openxmlformats.org/officeDocument/2006/relationships/image" Target="../media/image2.png"/><Relationship Id="rId7" Type="http://schemas.openxmlformats.org/officeDocument/2006/relationships/oleObject" Target="../embeddings/oleObject3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8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9.wmf"/><Relationship Id="rId1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10.wmf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7924680" y="220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9" name="DNA" descr=""/>
          <p:cNvPicPr/>
          <p:nvPr/>
        </p:nvPicPr>
        <p:blipFill>
          <a:blip r:embed="rId2"/>
          <a:stretch/>
        </p:blipFill>
        <p:spPr>
          <a:xfrm>
            <a:off x="3886200" y="3581280"/>
            <a:ext cx="1351080" cy="221004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1447920" y="762120"/>
            <a:ext cx="6476760" cy="23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3600" spc="-1" strike="noStrike">
                <a:solidFill>
                  <a:srgbClr val="ffff00"/>
                </a:solidFill>
                <a:latin typeface="Comic Sans MS"/>
              </a:rPr>
              <a:t>A Novel Approach to DNA Detection using SERR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Ljiljana Fru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DNA" descr=""/>
          <p:cNvPicPr/>
          <p:nvPr/>
        </p:nvPicPr>
        <p:blipFill>
          <a:blip r:embed="rId2"/>
          <a:stretch/>
        </p:blipFill>
        <p:spPr>
          <a:xfrm>
            <a:off x="0" y="152280"/>
            <a:ext cx="914400" cy="137160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914400" y="83808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Different spectra obtained when different dienes used with the same dye maleimide – great possibilities for multiplex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714680" y="156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380880" y="3962520"/>
          <a:ext cx="3886200" cy="24145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3962520"/>
                    <a:ext cx="3886200" cy="24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" name=""/>
          <p:cNvSpPr/>
          <p:nvPr/>
        </p:nvSpPr>
        <p:spPr>
          <a:xfrm>
            <a:off x="3990960" y="2543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657440" y="1743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162080" y="1452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67652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495680" y="3962520"/>
          <a:ext cx="4648320" cy="251460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95680" y="3962520"/>
                    <a:ext cx="4648320" cy="25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5" name=""/>
          <p:cNvGraphicFramePr/>
          <p:nvPr/>
        </p:nvGraphicFramePr>
        <p:xfrm>
          <a:off x="7238880" y="3429000"/>
          <a:ext cx="1600200" cy="1441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238880" y="3429000"/>
                    <a:ext cx="1600200" cy="144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7" name=""/>
          <p:cNvSpPr/>
          <p:nvPr/>
        </p:nvSpPr>
        <p:spPr>
          <a:xfrm>
            <a:off x="3581280" y="304812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BT dye maleimid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457200" y="3429000"/>
          <a:ext cx="1676520" cy="15098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57200" y="3429000"/>
                    <a:ext cx="1676520" cy="15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0" name=""/>
          <p:cNvGraphicFramePr/>
          <p:nvPr/>
        </p:nvGraphicFramePr>
        <p:xfrm>
          <a:off x="3733920" y="1752480"/>
          <a:ext cx="1766880" cy="13161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733920" y="1752480"/>
                    <a:ext cx="1766880" cy="13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2" name=""/>
          <p:cNvSpPr/>
          <p:nvPr/>
        </p:nvSpPr>
        <p:spPr>
          <a:xfrm>
            <a:off x="5715000" y="320040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GB" sz="1800" spc="-1" strike="noStrike">
                <a:solidFill>
                  <a:srgbClr val="ffff00"/>
                </a:solidFill>
                <a:latin typeface="Times New Roman"/>
              </a:rPr>
              <a:t>Oligo fura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600200" y="32004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Times New Roman"/>
              </a:rPr>
              <a:t>Oligo butadie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2514240" y="3200400"/>
            <a:ext cx="1143000" cy="914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410080" y="3200400"/>
            <a:ext cx="1143000" cy="10666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ERRS substrat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1600200"/>
            <a:ext cx="52578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Mainly used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ilver collo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reproducibility in the short period of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ime (ageing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85800" y="3962520"/>
            <a:ext cx="71629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cold deposited silver fil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roughness lost with 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urface susceptible to da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9" name="DNA" descr=""/>
          <p:cNvPicPr/>
          <p:nvPr/>
        </p:nvPicPr>
        <p:blipFill>
          <a:blip r:embed="rId4"/>
          <a:stretch/>
        </p:blipFill>
        <p:spPr>
          <a:xfrm>
            <a:off x="0" y="152280"/>
            <a:ext cx="99072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71600" y="609480"/>
            <a:ext cx="502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g-PVA dis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990720" y="1600200"/>
            <a:ext cx="7010280" cy="175248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622520" y="2430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371600" y="1981080"/>
            <a:ext cx="6248520" cy="15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g NO</a:t>
            </a:r>
            <a:r>
              <a:rPr b="0" lang="en-US" sz="2000" spc="-1" strike="noStrike" baseline="-30000">
                <a:solidFill>
                  <a:srgbClr val="ffff00"/>
                </a:solidFill>
                <a:latin typeface="Times New Roman"/>
                <a:ea typeface="Times New Roman"/>
              </a:rPr>
              <a:t>3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n polyvinylalcohol (PVA) solution (5% in H</a:t>
            </a:r>
            <a:r>
              <a:rPr b="0" lang="en-US" sz="2000" spc="-1" strike="noStrike" baseline="-30000">
                <a:solidFill>
                  <a:srgbClr val="ffff00"/>
                </a:solidFill>
                <a:latin typeface="Times New Roman"/>
                <a:ea typeface="Times New Roman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pin coated on the glass discs, dried and reduced with saturated FeSO</a:t>
            </a:r>
            <a:r>
              <a:rPr b="0" lang="en-US" sz="2000" spc="-1" strike="noStrike" baseline="-30000">
                <a:solidFill>
                  <a:srgbClr val="ffff00"/>
                </a:solidFill>
                <a:latin typeface="Times New Roman"/>
                <a:ea typeface="Times New Roman"/>
              </a:rPr>
              <a:t>4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solution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90720" y="4114800"/>
            <a:ext cx="7391160" cy="119124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ERRS maps done to check the reproducibility of the signal over the larger area of the substrate. BT maleimide dye adsorbed on the surf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5" name="DNA" descr=""/>
          <p:cNvPicPr/>
          <p:nvPr/>
        </p:nvPicPr>
        <p:blipFill>
          <a:blip r:embed="rId2"/>
          <a:stretch/>
        </p:blipFill>
        <p:spPr>
          <a:xfrm>
            <a:off x="0" y="228600"/>
            <a:ext cx="99072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6" name=""/>
          <p:cNvGraphicFramePr/>
          <p:nvPr/>
        </p:nvGraphicFramePr>
        <p:xfrm>
          <a:off x="1143000" y="304920"/>
          <a:ext cx="2590920" cy="2307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43000" y="304920"/>
                    <a:ext cx="2590920" cy="23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" name=""/>
          <p:cNvSpPr/>
          <p:nvPr/>
        </p:nvSpPr>
        <p:spPr>
          <a:xfrm rot="5405400">
            <a:off x="2552760" y="3238560"/>
            <a:ext cx="838080" cy="1371600"/>
          </a:xfrm>
          <a:custGeom>
            <a:avLst/>
            <a:gdLst>
              <a:gd name="textAreaLeft" fmla="*/ 279360 w 838080"/>
              <a:gd name="textAreaRight" fmla="*/ 717840 w 838080"/>
              <a:gd name="textAreaTop" fmla="*/ 789840 h 1371600"/>
              <a:gd name="textAreaBottom" fmla="*/ 117504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057400" y="29718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3D ma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3809880" y="1676520"/>
            <a:ext cx="4616640" cy="3376440"/>
            <a:chOff x="3809880" y="1676520"/>
            <a:chExt cx="4616640" cy="3376440"/>
          </a:xfrm>
        </p:grpSpPr>
        <p:graphicFrame>
          <p:nvGraphicFramePr>
            <p:cNvPr id="181" name=""/>
            <p:cNvGraphicFramePr/>
            <p:nvPr/>
          </p:nvGraphicFramePr>
          <p:xfrm>
            <a:off x="3809880" y="1676520"/>
            <a:ext cx="3962520" cy="337644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82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3809880" y="1676520"/>
                      <a:ext cx="3962520" cy="3376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83" name=""/>
            <p:cNvGraphicFramePr/>
            <p:nvPr/>
          </p:nvGraphicFramePr>
          <p:xfrm>
            <a:off x="7772400" y="1676520"/>
            <a:ext cx="654120" cy="335268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184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7772400" y="1676520"/>
                      <a:ext cx="654120" cy="3352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85" name=""/>
          <p:cNvSpPr/>
          <p:nvPr/>
        </p:nvSpPr>
        <p:spPr>
          <a:xfrm>
            <a:off x="3809880" y="228600"/>
            <a:ext cx="38102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514 nm las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3 accum, 3 sec, 400x400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6" name="DNA" descr=""/>
          <p:cNvPicPr/>
          <p:nvPr/>
        </p:nvPicPr>
        <p:blipFill>
          <a:blip r:embed="rId8"/>
          <a:stretch/>
        </p:blipFill>
        <p:spPr>
          <a:xfrm>
            <a:off x="0" y="228600"/>
            <a:ext cx="1066680" cy="137160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838080" y="5486400"/>
            <a:ext cx="762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VA-Ag surface additionally investigated by Electron Microprobe – elemental analysis of the surfac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447920" y="380880"/>
            <a:ext cx="58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ERRS beaco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219320" y="2438280"/>
            <a:ext cx="7162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ONE RING TO BIND THEM, ONE RING TO RULE THEM AL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0" name="frodo" descr=""/>
          <p:cNvPicPr/>
          <p:nvPr/>
        </p:nvPicPr>
        <p:blipFill>
          <a:blip r:embed="rId2"/>
          <a:stretch/>
        </p:blipFill>
        <p:spPr>
          <a:xfrm>
            <a:off x="2666880" y="3886200"/>
            <a:ext cx="4191120" cy="3368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1" name=""/>
          <p:cNvGraphicFramePr/>
          <p:nvPr/>
        </p:nvGraphicFramePr>
        <p:xfrm>
          <a:off x="3048120" y="1143000"/>
          <a:ext cx="3392280" cy="3535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8120" y="1143000"/>
                    <a:ext cx="3392280" cy="35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DNA" descr=""/>
          <p:cNvPicPr/>
          <p:nvPr/>
        </p:nvPicPr>
        <p:blipFill>
          <a:blip r:embed="rId2"/>
          <a:stretch/>
        </p:blipFill>
        <p:spPr>
          <a:xfrm>
            <a:off x="0" y="228600"/>
            <a:ext cx="1066680" cy="137160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Molecular Beac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784080" y="4648320"/>
            <a:ext cx="7543800" cy="521640"/>
            <a:chOff x="784080" y="4648320"/>
            <a:chExt cx="7543800" cy="521640"/>
          </a:xfrm>
        </p:grpSpPr>
        <p:sp>
          <p:nvSpPr>
            <p:cNvPr id="196" name=""/>
            <p:cNvSpPr/>
            <p:nvPr/>
          </p:nvSpPr>
          <p:spPr>
            <a:xfrm rot="16200000">
              <a:off x="4055400" y="4842360"/>
              <a:ext cx="298080" cy="7452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33cccc"/>
                </a:gs>
                <a:gs pos="100000">
                  <a:srgbClr val="0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6200000">
              <a:off x="4244400" y="4725000"/>
              <a:ext cx="228240" cy="748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0099ff"/>
                </a:gs>
                <a:gs pos="100000">
                  <a:srgbClr val="3333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rot="16200000">
              <a:off x="4359960" y="4842360"/>
              <a:ext cx="298080" cy="7452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33cccc"/>
                </a:gs>
                <a:gs pos="100000">
                  <a:srgbClr val="0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rot="16200000">
              <a:off x="4548960" y="4725000"/>
              <a:ext cx="228240" cy="7452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33cccc"/>
                </a:gs>
                <a:gs pos="100000">
                  <a:srgbClr val="0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rot="16200000">
              <a:off x="4664880" y="4842360"/>
              <a:ext cx="298080" cy="7452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0099ff"/>
                </a:gs>
                <a:gs pos="100000">
                  <a:srgbClr val="3333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rot="16200000">
              <a:off x="4853880" y="4800960"/>
              <a:ext cx="228240" cy="7452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33cccc"/>
                </a:gs>
                <a:gs pos="100000">
                  <a:srgbClr val="0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84080" y="4867200"/>
              <a:ext cx="7543800" cy="30276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0099ff"/>
                </a:gs>
                <a:gs pos="100000">
                  <a:srgbClr val="3333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538440" y="1407960"/>
            <a:ext cx="2057400" cy="2554920"/>
            <a:chOff x="3538440" y="1407960"/>
            <a:chExt cx="2057400" cy="2554920"/>
          </a:xfrm>
        </p:grpSpPr>
        <p:grpSp>
          <p:nvGrpSpPr>
            <p:cNvPr id="204" name=""/>
            <p:cNvGrpSpPr/>
            <p:nvPr/>
          </p:nvGrpSpPr>
          <p:grpSpPr>
            <a:xfrm>
              <a:off x="3538440" y="1407960"/>
              <a:ext cx="2057400" cy="2477880"/>
              <a:chOff x="3538440" y="1407960"/>
              <a:chExt cx="2057400" cy="2477880"/>
            </a:xfrm>
          </p:grpSpPr>
          <p:sp>
            <p:nvSpPr>
              <p:cNvPr id="205" name=""/>
              <p:cNvSpPr/>
              <p:nvPr/>
            </p:nvSpPr>
            <p:spPr>
              <a:xfrm rot="16200000">
                <a:off x="4035960" y="1884600"/>
                <a:ext cx="29844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rot="16200000">
                <a:off x="4224960" y="176724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 rot="16200000">
                <a:off x="4340880" y="1806840"/>
                <a:ext cx="29844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 rot="16200000">
                <a:off x="4529520" y="1766880"/>
                <a:ext cx="228600" cy="7488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16200000">
                <a:off x="4645440" y="1806480"/>
                <a:ext cx="298440" cy="7488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16200000">
                <a:off x="4834440" y="184320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4636800" y="296532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4560840" y="311760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4560840" y="3269880"/>
                <a:ext cx="228600" cy="7488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4636800" y="342252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4560840" y="357480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4636800" y="3727080"/>
                <a:ext cx="228600" cy="7488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4344840" y="296532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4268520" y="311760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4268520" y="3269880"/>
                <a:ext cx="228600" cy="7488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4344840" y="342252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268520" y="357480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4344840" y="3727080"/>
                <a:ext cx="228600" cy="7488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3538440" y="1407960"/>
                <a:ext cx="2057400" cy="1752480"/>
              </a:xfrm>
              <a:prstGeom prst="blockArc">
                <a:avLst>
                  <a:gd name="adj1" fmla="val 6773535"/>
                  <a:gd name="adj2" fmla="val 4026465"/>
                  <a:gd name="adj3" fmla="val 15097"/>
                </a:avLst>
              </a:prstGeom>
              <a:gradFill rotWithShape="0">
                <a:gsLst>
                  <a:gs pos="0">
                    <a:srgbClr val="0099ff"/>
                  </a:gs>
                  <a:gs pos="100000">
                    <a:srgbClr val="3333c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5400000">
                <a:off x="3678840" y="3213720"/>
                <a:ext cx="1028880" cy="3031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5400000">
                <a:off x="4418280" y="3219840"/>
                <a:ext cx="1028520" cy="30348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26" name=""/>
            <p:cNvGrpSpPr/>
            <p:nvPr/>
          </p:nvGrpSpPr>
          <p:grpSpPr>
            <a:xfrm>
              <a:off x="4919760" y="3625560"/>
              <a:ext cx="342720" cy="337320"/>
              <a:chOff x="4919760" y="3625560"/>
              <a:chExt cx="342720" cy="337320"/>
            </a:xfrm>
          </p:grpSpPr>
          <p:sp>
            <p:nvSpPr>
              <p:cNvPr id="227" name=""/>
              <p:cNvSpPr/>
              <p:nvPr/>
            </p:nvSpPr>
            <p:spPr>
              <a:xfrm>
                <a:off x="4932360" y="3647880"/>
                <a:ext cx="318960" cy="314280"/>
              </a:xfrm>
              <a:prstGeom prst="ellipse">
                <a:avLst/>
              </a:prstGeom>
              <a:gradFill rotWithShape="0">
                <a:gsLst>
                  <a:gs pos="0">
                    <a:srgbClr val="990000"/>
                  </a:gs>
                  <a:gs pos="100000">
                    <a:srgbClr val="543522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4919760" y="3625560"/>
                <a:ext cx="342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9966"/>
                    </a:solidFill>
                    <a:latin typeface="Arial"/>
                  </a:rPr>
                  <a:t>Q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3919680" y="3625560"/>
              <a:ext cx="342720" cy="337320"/>
              <a:chOff x="3919680" y="3625560"/>
              <a:chExt cx="342720" cy="337320"/>
            </a:xfrm>
          </p:grpSpPr>
          <p:sp>
            <p:nvSpPr>
              <p:cNvPr id="230" name=""/>
              <p:cNvSpPr/>
              <p:nvPr/>
            </p:nvSpPr>
            <p:spPr>
              <a:xfrm>
                <a:off x="3919680" y="3647880"/>
                <a:ext cx="318600" cy="314280"/>
              </a:xfrm>
              <a:prstGeom prst="ellipse">
                <a:avLst/>
              </a:prstGeom>
              <a:gradFill rotWithShape="0">
                <a:gsLst>
                  <a:gs pos="0">
                    <a:srgbClr val="006600"/>
                  </a:gs>
                  <a:gs pos="100000">
                    <a:srgbClr val="0033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3919680" y="3625560"/>
                <a:ext cx="342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9966"/>
                    </a:solidFill>
                    <a:latin typeface="Arial"/>
                  </a:rPr>
                  <a:t>R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32" name=""/>
          <p:cNvGrpSpPr/>
          <p:nvPr/>
        </p:nvGrpSpPr>
        <p:grpSpPr>
          <a:xfrm>
            <a:off x="3417840" y="1909800"/>
            <a:ext cx="2323800" cy="1900800"/>
            <a:chOff x="3417840" y="1909800"/>
            <a:chExt cx="2323800" cy="1900800"/>
          </a:xfrm>
        </p:grpSpPr>
        <p:grpSp>
          <p:nvGrpSpPr>
            <p:cNvPr id="233" name=""/>
            <p:cNvGrpSpPr/>
            <p:nvPr/>
          </p:nvGrpSpPr>
          <p:grpSpPr>
            <a:xfrm>
              <a:off x="3529080" y="1909800"/>
              <a:ext cx="2058480" cy="1828080"/>
              <a:chOff x="3529080" y="1909800"/>
              <a:chExt cx="2058480" cy="1828080"/>
            </a:xfrm>
          </p:grpSpPr>
          <p:sp>
            <p:nvSpPr>
              <p:cNvPr id="234" name=""/>
              <p:cNvSpPr/>
              <p:nvPr/>
            </p:nvSpPr>
            <p:spPr>
              <a:xfrm rot="16200000">
                <a:off x="4026600" y="2332440"/>
                <a:ext cx="29808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6200000">
                <a:off x="4215600" y="2214720"/>
                <a:ext cx="228240" cy="7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6200000">
                <a:off x="4331520" y="2254680"/>
                <a:ext cx="29808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6200000">
                <a:off x="4520520" y="2214720"/>
                <a:ext cx="228240" cy="7488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6200000">
                <a:off x="4636440" y="2254680"/>
                <a:ext cx="298080" cy="7488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16200000">
                <a:off x="4825080" y="2291040"/>
                <a:ext cx="22824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3529080" y="1909800"/>
                <a:ext cx="2057400" cy="1752480"/>
              </a:xfrm>
              <a:prstGeom prst="blockArc">
                <a:avLst>
                  <a:gd name="adj1" fmla="val 11000679"/>
                  <a:gd name="adj2" fmla="val 21399321"/>
                  <a:gd name="adj3" fmla="val 14292"/>
                </a:avLst>
              </a:prstGeom>
              <a:gradFill rotWithShape="0">
                <a:gsLst>
                  <a:gs pos="0">
                    <a:srgbClr val="0099ff"/>
                  </a:gs>
                  <a:gs pos="100000">
                    <a:srgbClr val="3333c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41" name=""/>
              <p:cNvGrpSpPr/>
              <p:nvPr/>
            </p:nvGrpSpPr>
            <p:grpSpPr>
              <a:xfrm>
                <a:off x="3529080" y="2709720"/>
                <a:ext cx="531720" cy="1028160"/>
                <a:chOff x="3529080" y="2709720"/>
                <a:chExt cx="531720" cy="102816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3832200" y="282348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3755880" y="297576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3755880" y="312840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3832200" y="328068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3755880" y="343296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3832200" y="358560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 rot="5400000">
                  <a:off x="3166560" y="3072240"/>
                  <a:ext cx="1028160" cy="3031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9" name=""/>
              <p:cNvGrpSpPr/>
              <p:nvPr/>
            </p:nvGrpSpPr>
            <p:grpSpPr>
              <a:xfrm>
                <a:off x="5064120" y="2709720"/>
                <a:ext cx="523440" cy="1028160"/>
                <a:chOff x="5064120" y="2709720"/>
                <a:chExt cx="523440" cy="1028160"/>
              </a:xfrm>
            </p:grpSpPr>
            <p:sp>
              <p:nvSpPr>
                <p:cNvPr id="250" name=""/>
                <p:cNvSpPr/>
                <p:nvPr/>
              </p:nvSpPr>
              <p:spPr>
                <a:xfrm>
                  <a:off x="5140080" y="281736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5064120" y="296964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5064120" y="312228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5140080" y="327420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5064120" y="342648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>
                  <a:off x="5140080" y="357912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 rot="5400000">
                  <a:off x="4921560" y="3071880"/>
                  <a:ext cx="1028160" cy="3034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7" name=""/>
            <p:cNvGrpSpPr/>
            <p:nvPr/>
          </p:nvGrpSpPr>
          <p:grpSpPr>
            <a:xfrm>
              <a:off x="3417840" y="3473280"/>
              <a:ext cx="342720" cy="337320"/>
              <a:chOff x="3417840" y="3473280"/>
              <a:chExt cx="342720" cy="337320"/>
            </a:xfrm>
          </p:grpSpPr>
          <p:sp>
            <p:nvSpPr>
              <p:cNvPr id="258" name=""/>
              <p:cNvSpPr/>
              <p:nvPr/>
            </p:nvSpPr>
            <p:spPr>
              <a:xfrm>
                <a:off x="3417840" y="3495240"/>
                <a:ext cx="318600" cy="313920"/>
              </a:xfrm>
              <a:prstGeom prst="ellipse">
                <a:avLst/>
              </a:prstGeom>
              <a:gradFill rotWithShape="0">
                <a:gsLst>
                  <a:gs pos="0">
                    <a:srgbClr val="006600"/>
                  </a:gs>
                  <a:gs pos="100000">
                    <a:srgbClr val="0033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3417840" y="3473280"/>
                <a:ext cx="342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9966"/>
                    </a:solidFill>
                    <a:latin typeface="Arial"/>
                  </a:rPr>
                  <a:t>R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60" name=""/>
            <p:cNvGrpSpPr/>
            <p:nvPr/>
          </p:nvGrpSpPr>
          <p:grpSpPr>
            <a:xfrm>
              <a:off x="5398920" y="3473280"/>
              <a:ext cx="342720" cy="337320"/>
              <a:chOff x="5398920" y="3473280"/>
              <a:chExt cx="342720" cy="337320"/>
            </a:xfrm>
          </p:grpSpPr>
          <p:sp>
            <p:nvSpPr>
              <p:cNvPr id="261" name=""/>
              <p:cNvSpPr/>
              <p:nvPr/>
            </p:nvSpPr>
            <p:spPr>
              <a:xfrm>
                <a:off x="5411520" y="3495240"/>
                <a:ext cx="318960" cy="313920"/>
              </a:xfrm>
              <a:prstGeom prst="ellipse">
                <a:avLst/>
              </a:prstGeom>
              <a:gradFill rotWithShape="0">
                <a:gsLst>
                  <a:gs pos="0">
                    <a:srgbClr val="990000"/>
                  </a:gs>
                  <a:gs pos="100000">
                    <a:srgbClr val="543522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5398920" y="3473280"/>
                <a:ext cx="342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9966"/>
                    </a:solidFill>
                    <a:latin typeface="Arial"/>
                  </a:rPr>
                  <a:t>Q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63" name=""/>
          <p:cNvGrpSpPr/>
          <p:nvPr/>
        </p:nvGrpSpPr>
        <p:grpSpPr>
          <a:xfrm>
            <a:off x="3112920" y="2362320"/>
            <a:ext cx="3009600" cy="1752480"/>
            <a:chOff x="3112920" y="2362320"/>
            <a:chExt cx="3009600" cy="1752480"/>
          </a:xfrm>
        </p:grpSpPr>
        <p:grpSp>
          <p:nvGrpSpPr>
            <p:cNvPr id="264" name=""/>
            <p:cNvGrpSpPr/>
            <p:nvPr/>
          </p:nvGrpSpPr>
          <p:grpSpPr>
            <a:xfrm>
              <a:off x="3204720" y="2362320"/>
              <a:ext cx="2772000" cy="1752480"/>
              <a:chOff x="3204720" y="2362320"/>
              <a:chExt cx="2772000" cy="1752480"/>
            </a:xfrm>
          </p:grpSpPr>
          <p:sp>
            <p:nvSpPr>
              <p:cNvPr id="265" name=""/>
              <p:cNvSpPr/>
              <p:nvPr/>
            </p:nvSpPr>
            <p:spPr>
              <a:xfrm rot="16200000">
                <a:off x="4037400" y="2785320"/>
                <a:ext cx="298080" cy="7416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6200000">
                <a:off x="4226040" y="2667240"/>
                <a:ext cx="228240" cy="7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6200000">
                <a:off x="4341960" y="2707200"/>
                <a:ext cx="29808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6200000">
                <a:off x="4530960" y="2667600"/>
                <a:ext cx="228240" cy="7416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6200000">
                <a:off x="4646880" y="2707560"/>
                <a:ext cx="298080" cy="7416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6200000">
                <a:off x="4835880" y="2743920"/>
                <a:ext cx="228240" cy="7416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3539520" y="2362320"/>
                <a:ext cx="2057040" cy="1752480"/>
              </a:xfrm>
              <a:prstGeom prst="blockArc">
                <a:avLst>
                  <a:gd name="adj1" fmla="val 12222482"/>
                  <a:gd name="adj2" fmla="val 20177518"/>
                  <a:gd name="adj3" fmla="val 14861"/>
                </a:avLst>
              </a:prstGeom>
              <a:gradFill rotWithShape="0">
                <a:gsLst>
                  <a:gs pos="0">
                    <a:srgbClr val="0099ff"/>
                  </a:gs>
                  <a:gs pos="100000">
                    <a:srgbClr val="3333c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72" name=""/>
              <p:cNvGrpSpPr/>
              <p:nvPr/>
            </p:nvGrpSpPr>
            <p:grpSpPr>
              <a:xfrm>
                <a:off x="3204720" y="2831040"/>
                <a:ext cx="870120" cy="1086480"/>
                <a:chOff x="3204720" y="2831040"/>
                <a:chExt cx="870120" cy="1086480"/>
              </a:xfrm>
            </p:grpSpPr>
            <p:sp>
              <p:nvSpPr>
                <p:cNvPr id="273" name=""/>
                <p:cNvSpPr/>
                <p:nvPr/>
              </p:nvSpPr>
              <p:spPr>
                <a:xfrm rot="1512000">
                  <a:off x="3841200" y="310860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 rot="1512000">
                  <a:off x="3707280" y="3213720"/>
                  <a:ext cx="22824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 rot="1512000">
                  <a:off x="3642480" y="335196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 rot="1512000">
                  <a:off x="3646440" y="352224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 rot="1512000">
                  <a:off x="3512880" y="3627360"/>
                  <a:ext cx="22824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 rot="1512000">
                  <a:off x="3516840" y="379800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 rot="6912600">
                  <a:off x="3045960" y="3209400"/>
                  <a:ext cx="1028520" cy="302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0" name=""/>
              <p:cNvGrpSpPr/>
              <p:nvPr/>
            </p:nvGrpSpPr>
            <p:grpSpPr>
              <a:xfrm>
                <a:off x="5138640" y="2833200"/>
                <a:ext cx="838080" cy="1046520"/>
                <a:chOff x="5138640" y="2833200"/>
                <a:chExt cx="838080" cy="1046520"/>
              </a:xfrm>
            </p:grpSpPr>
            <p:sp>
              <p:nvSpPr>
                <p:cNvPr id="281" name=""/>
                <p:cNvSpPr/>
                <p:nvPr/>
              </p:nvSpPr>
              <p:spPr>
                <a:xfrm rot="19857000">
                  <a:off x="5142240" y="308412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 rot="19857000">
                  <a:off x="5149800" y="325404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 rot="19857000">
                  <a:off x="5223960" y="338724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 rot="19857000">
                  <a:off x="5364000" y="348372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 rot="19857000">
                  <a:off x="5371560" y="365364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 rot="19857000">
                  <a:off x="5512320" y="375012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 rot="3657000">
                  <a:off x="5079960" y="3204360"/>
                  <a:ext cx="1028520" cy="3034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88" name=""/>
            <p:cNvGrpSpPr/>
            <p:nvPr/>
          </p:nvGrpSpPr>
          <p:grpSpPr>
            <a:xfrm>
              <a:off x="3112920" y="3587760"/>
              <a:ext cx="342720" cy="337320"/>
              <a:chOff x="3112920" y="3587760"/>
              <a:chExt cx="342720" cy="337320"/>
            </a:xfrm>
          </p:grpSpPr>
          <p:sp>
            <p:nvSpPr>
              <p:cNvPr id="289" name=""/>
              <p:cNvSpPr/>
              <p:nvPr/>
            </p:nvSpPr>
            <p:spPr>
              <a:xfrm>
                <a:off x="3112920" y="3610080"/>
                <a:ext cx="318600" cy="314280"/>
              </a:xfrm>
              <a:prstGeom prst="ellipse">
                <a:avLst/>
              </a:prstGeom>
              <a:gradFill rotWithShape="0">
                <a:gsLst>
                  <a:gs pos="0">
                    <a:srgbClr val="006600"/>
                  </a:gs>
                  <a:gs pos="100000">
                    <a:srgbClr val="0033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3112920" y="3587760"/>
                <a:ext cx="342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9966"/>
                    </a:solidFill>
                    <a:latin typeface="Arial"/>
                  </a:rPr>
                  <a:t>R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91" name=""/>
            <p:cNvGrpSpPr/>
            <p:nvPr/>
          </p:nvGrpSpPr>
          <p:grpSpPr>
            <a:xfrm>
              <a:off x="5779800" y="3511440"/>
              <a:ext cx="342720" cy="337320"/>
              <a:chOff x="5779800" y="3511440"/>
              <a:chExt cx="342720" cy="337320"/>
            </a:xfrm>
          </p:grpSpPr>
          <p:sp>
            <p:nvSpPr>
              <p:cNvPr id="292" name=""/>
              <p:cNvSpPr/>
              <p:nvPr/>
            </p:nvSpPr>
            <p:spPr>
              <a:xfrm>
                <a:off x="5792400" y="3533760"/>
                <a:ext cx="318960" cy="314280"/>
              </a:xfrm>
              <a:prstGeom prst="ellipse">
                <a:avLst/>
              </a:prstGeom>
              <a:gradFill rotWithShape="0">
                <a:gsLst>
                  <a:gs pos="0">
                    <a:srgbClr val="990000"/>
                  </a:gs>
                  <a:gs pos="100000">
                    <a:srgbClr val="543522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5779800" y="3511440"/>
                <a:ext cx="342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9966"/>
                    </a:solidFill>
                    <a:latin typeface="Arial"/>
                  </a:rPr>
                  <a:t>Q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94" name=""/>
          <p:cNvGrpSpPr/>
          <p:nvPr/>
        </p:nvGrpSpPr>
        <p:grpSpPr>
          <a:xfrm>
            <a:off x="2362320" y="3809880"/>
            <a:ext cx="4381200" cy="1752480"/>
            <a:chOff x="2362320" y="3809880"/>
            <a:chExt cx="4381200" cy="1752480"/>
          </a:xfrm>
        </p:grpSpPr>
        <p:grpSp>
          <p:nvGrpSpPr>
            <p:cNvPr id="295" name=""/>
            <p:cNvGrpSpPr/>
            <p:nvPr/>
          </p:nvGrpSpPr>
          <p:grpSpPr>
            <a:xfrm>
              <a:off x="2483640" y="3809880"/>
              <a:ext cx="4162320" cy="1752480"/>
              <a:chOff x="2483640" y="3809880"/>
              <a:chExt cx="4162320" cy="1752480"/>
            </a:xfrm>
          </p:grpSpPr>
          <p:sp>
            <p:nvSpPr>
              <p:cNvPr id="296" name=""/>
              <p:cNvSpPr/>
              <p:nvPr/>
            </p:nvSpPr>
            <p:spPr>
              <a:xfrm rot="16200000">
                <a:off x="4053600" y="4186440"/>
                <a:ext cx="29844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6200000">
                <a:off x="4242600" y="406908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6200000">
                <a:off x="4358520" y="4108680"/>
                <a:ext cx="29844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6200000">
                <a:off x="4547160" y="4068720"/>
                <a:ext cx="228600" cy="7488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6200000">
                <a:off x="4663080" y="4108680"/>
                <a:ext cx="298440" cy="7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6200000">
                <a:off x="4852080" y="414540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2576520" y="3809880"/>
                <a:ext cx="3962160" cy="1752480"/>
              </a:xfrm>
              <a:prstGeom prst="blockArc">
                <a:avLst>
                  <a:gd name="adj1" fmla="val 14424157"/>
                  <a:gd name="adj2" fmla="val 17975843"/>
                  <a:gd name="adj3" fmla="val 15208"/>
                </a:avLst>
              </a:prstGeom>
              <a:gradFill rotWithShape="0">
                <a:gsLst>
                  <a:gs pos="0">
                    <a:srgbClr val="0099ff"/>
                  </a:gs>
                  <a:gs pos="100000">
                    <a:srgbClr val="3333c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03" name=""/>
              <p:cNvGrpSpPr/>
              <p:nvPr/>
            </p:nvGrpSpPr>
            <p:grpSpPr>
              <a:xfrm>
                <a:off x="2483640" y="3871080"/>
                <a:ext cx="1390320" cy="767880"/>
                <a:chOff x="2483640" y="3871080"/>
                <a:chExt cx="1390320" cy="767880"/>
              </a:xfrm>
            </p:grpSpPr>
            <p:sp>
              <p:nvSpPr>
                <p:cNvPr id="304" name=""/>
                <p:cNvSpPr/>
                <p:nvPr/>
              </p:nvSpPr>
              <p:spPr>
                <a:xfrm rot="4734000">
                  <a:off x="3308760" y="433584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 rot="4734000">
                  <a:off x="3145320" y="4289760"/>
                  <a:ext cx="22860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 rot="4734000">
                  <a:off x="2995920" y="432000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 rot="4734000">
                  <a:off x="2860920" y="442296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 rot="4734000">
                  <a:off x="2696040" y="437724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 rot="4734000">
                  <a:off x="2561040" y="448200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 rot="10134000">
                  <a:off x="2500200" y="3998520"/>
                  <a:ext cx="1357200" cy="3031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1" name=""/>
              <p:cNvGrpSpPr/>
              <p:nvPr/>
            </p:nvGrpSpPr>
            <p:grpSpPr>
              <a:xfrm>
                <a:off x="5241240" y="3861360"/>
                <a:ext cx="1404720" cy="755280"/>
                <a:chOff x="5241240" y="3861360"/>
                <a:chExt cx="1404720" cy="755280"/>
              </a:xfrm>
            </p:grpSpPr>
            <p:sp>
              <p:nvSpPr>
                <p:cNvPr id="312" name=""/>
                <p:cNvSpPr/>
                <p:nvPr/>
              </p:nvSpPr>
              <p:spPr>
                <a:xfrm rot="16936200">
                  <a:off x="5598000" y="4254480"/>
                  <a:ext cx="22860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 rot="16936200">
                  <a:off x="5730120" y="436140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 rot="16936200">
                  <a:off x="5879160" y="439452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 rot="16936200">
                  <a:off x="6044400" y="435168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 rot="16936200">
                  <a:off x="6177600" y="445968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 rot="16936200">
                  <a:off x="6342840" y="441684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 rot="736200">
                  <a:off x="5257800" y="4003560"/>
                  <a:ext cx="1371600" cy="3031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19" name=""/>
            <p:cNvGrpSpPr/>
            <p:nvPr/>
          </p:nvGrpSpPr>
          <p:grpSpPr>
            <a:xfrm>
              <a:off x="2362320" y="3900600"/>
              <a:ext cx="347760" cy="337320"/>
              <a:chOff x="2362320" y="3900600"/>
              <a:chExt cx="347760" cy="337320"/>
            </a:xfrm>
          </p:grpSpPr>
          <p:sp>
            <p:nvSpPr>
              <p:cNvPr id="320" name=""/>
              <p:cNvSpPr/>
              <p:nvPr/>
            </p:nvSpPr>
            <p:spPr>
              <a:xfrm>
                <a:off x="2362320" y="3922920"/>
                <a:ext cx="318960" cy="314280"/>
              </a:xfrm>
              <a:prstGeom prst="ellipse">
                <a:avLst/>
              </a:prstGeom>
              <a:gradFill rotWithShape="0">
                <a:gsLst>
                  <a:gs pos="0">
                    <a:srgbClr val="39ff39"/>
                  </a:gs>
                  <a:gs pos="100000">
                    <a:srgbClr val="00cc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2367000" y="3900600"/>
                <a:ext cx="343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9966"/>
                    </a:solidFill>
                    <a:latin typeface="Arial"/>
                  </a:rPr>
                  <a:t>R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6400800" y="3900600"/>
              <a:ext cx="342720" cy="337320"/>
              <a:chOff x="6400800" y="3900600"/>
              <a:chExt cx="342720" cy="337320"/>
            </a:xfrm>
          </p:grpSpPr>
          <p:sp>
            <p:nvSpPr>
              <p:cNvPr id="323" name=""/>
              <p:cNvSpPr/>
              <p:nvPr/>
            </p:nvSpPr>
            <p:spPr>
              <a:xfrm>
                <a:off x="6413400" y="3922920"/>
                <a:ext cx="318960" cy="314280"/>
              </a:xfrm>
              <a:prstGeom prst="ellipse">
                <a:avLst/>
              </a:prstGeom>
              <a:gradFill rotWithShape="0">
                <a:gsLst>
                  <a:gs pos="0">
                    <a:srgbClr val="990000"/>
                  </a:gs>
                  <a:gs pos="100000">
                    <a:srgbClr val="543522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6400800" y="3900600"/>
                <a:ext cx="342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9966"/>
                    </a:solidFill>
                    <a:latin typeface="Arial"/>
                  </a:rPr>
                  <a:t>Q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25" name=""/>
          <p:cNvGrpSpPr/>
          <p:nvPr/>
        </p:nvGrpSpPr>
        <p:grpSpPr>
          <a:xfrm>
            <a:off x="2844720" y="2819520"/>
            <a:ext cx="3467160" cy="1752480"/>
            <a:chOff x="2844720" y="2819520"/>
            <a:chExt cx="3467160" cy="1752480"/>
          </a:xfrm>
        </p:grpSpPr>
        <p:grpSp>
          <p:nvGrpSpPr>
            <p:cNvPr id="326" name=""/>
            <p:cNvGrpSpPr/>
            <p:nvPr/>
          </p:nvGrpSpPr>
          <p:grpSpPr>
            <a:xfrm>
              <a:off x="2960280" y="2819520"/>
              <a:ext cx="3198960" cy="1752480"/>
              <a:chOff x="2960280" y="2819520"/>
              <a:chExt cx="3198960" cy="1752480"/>
            </a:xfrm>
          </p:grpSpPr>
          <p:sp>
            <p:nvSpPr>
              <p:cNvPr id="327" name=""/>
              <p:cNvSpPr/>
              <p:nvPr/>
            </p:nvSpPr>
            <p:spPr>
              <a:xfrm rot="16200000">
                <a:off x="4039560" y="3242160"/>
                <a:ext cx="29844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 rot="16200000">
                <a:off x="4228560" y="312480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 rot="16200000">
                <a:off x="4344480" y="3164400"/>
                <a:ext cx="29844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 rot="16200000">
                <a:off x="4533480" y="312480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 rot="16200000">
                <a:off x="4649040" y="3164040"/>
                <a:ext cx="298440" cy="7488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 rot="16200000">
                <a:off x="4838040" y="320112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324600" y="2819520"/>
                <a:ext cx="2420640" cy="1752480"/>
              </a:xfrm>
              <a:prstGeom prst="blockArc">
                <a:avLst>
                  <a:gd name="adj1" fmla="val 13102124"/>
                  <a:gd name="adj2" fmla="val 19297876"/>
                  <a:gd name="adj3" fmla="val 15417"/>
                </a:avLst>
              </a:prstGeom>
              <a:gradFill rotWithShape="0">
                <a:gsLst>
                  <a:gs pos="0">
                    <a:srgbClr val="0099ff"/>
                  </a:gs>
                  <a:gs pos="100000">
                    <a:srgbClr val="3333c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34" name=""/>
              <p:cNvGrpSpPr/>
              <p:nvPr/>
            </p:nvGrpSpPr>
            <p:grpSpPr>
              <a:xfrm>
                <a:off x="2960280" y="3144240"/>
                <a:ext cx="1008360" cy="1061280"/>
                <a:chOff x="2960280" y="3144240"/>
                <a:chExt cx="1008360" cy="1061280"/>
              </a:xfrm>
            </p:grpSpPr>
            <p:sp>
              <p:nvSpPr>
                <p:cNvPr id="335" name=""/>
                <p:cNvSpPr/>
                <p:nvPr/>
              </p:nvSpPr>
              <p:spPr>
                <a:xfrm rot="2533800">
                  <a:off x="3744720" y="349956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 rot="2533800">
                  <a:off x="3585600" y="3560760"/>
                  <a:ext cx="22860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 rot="2533800">
                  <a:off x="3483360" y="367380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 rot="2533800">
                  <a:off x="3437640" y="383796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 rot="2533800">
                  <a:off x="3278520" y="3899520"/>
                  <a:ext cx="22860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 rot="2533800">
                  <a:off x="3232800" y="406368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 rot="7933800">
                  <a:off x="2903760" y="3475080"/>
                  <a:ext cx="1028520" cy="3031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2" name=""/>
              <p:cNvGrpSpPr/>
              <p:nvPr/>
            </p:nvGrpSpPr>
            <p:grpSpPr>
              <a:xfrm>
                <a:off x="5176440" y="3118680"/>
                <a:ext cx="982800" cy="965160"/>
                <a:chOff x="5176440" y="3118680"/>
                <a:chExt cx="982800" cy="965160"/>
              </a:xfrm>
            </p:grpSpPr>
            <p:sp>
              <p:nvSpPr>
                <p:cNvPr id="343" name=""/>
                <p:cNvSpPr/>
                <p:nvPr/>
              </p:nvSpPr>
              <p:spPr>
                <a:xfrm rot="18729600">
                  <a:off x="5166000" y="342540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 rot="18729600">
                  <a:off x="5228280" y="358380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 rot="18729600">
                  <a:off x="5340960" y="368640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 rot="18729600">
                  <a:off x="5504760" y="373212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 rot="18729600">
                  <a:off x="5567040" y="389052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 rot="18729600">
                  <a:off x="5730840" y="3936960"/>
                  <a:ext cx="22860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 rot="2529600">
                  <a:off x="5161680" y="3424320"/>
                  <a:ext cx="1028520" cy="3034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50" name=""/>
            <p:cNvGrpSpPr/>
            <p:nvPr/>
          </p:nvGrpSpPr>
          <p:grpSpPr>
            <a:xfrm>
              <a:off x="2844720" y="3701880"/>
              <a:ext cx="343080" cy="337320"/>
              <a:chOff x="2844720" y="3701880"/>
              <a:chExt cx="343080" cy="337320"/>
            </a:xfrm>
          </p:grpSpPr>
          <p:sp>
            <p:nvSpPr>
              <p:cNvPr id="351" name=""/>
              <p:cNvSpPr/>
              <p:nvPr/>
            </p:nvSpPr>
            <p:spPr>
              <a:xfrm>
                <a:off x="2844720" y="3724200"/>
                <a:ext cx="318960" cy="314280"/>
              </a:xfrm>
              <a:prstGeom prst="ellipse">
                <a:avLst/>
              </a:prstGeom>
              <a:gradFill rotWithShape="0">
                <a:gsLst>
                  <a:gs pos="0">
                    <a:srgbClr val="006600"/>
                  </a:gs>
                  <a:gs pos="100000">
                    <a:srgbClr val="0033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2844720" y="3701880"/>
                <a:ext cx="343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9966"/>
                    </a:solidFill>
                    <a:latin typeface="Arial"/>
                  </a:rPr>
                  <a:t>R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53" name=""/>
            <p:cNvGrpSpPr/>
            <p:nvPr/>
          </p:nvGrpSpPr>
          <p:grpSpPr>
            <a:xfrm>
              <a:off x="5969160" y="3581280"/>
              <a:ext cx="342720" cy="337320"/>
              <a:chOff x="5969160" y="3581280"/>
              <a:chExt cx="342720" cy="337320"/>
            </a:xfrm>
          </p:grpSpPr>
          <p:sp>
            <p:nvSpPr>
              <p:cNvPr id="354" name=""/>
              <p:cNvSpPr/>
              <p:nvPr/>
            </p:nvSpPr>
            <p:spPr>
              <a:xfrm>
                <a:off x="5981760" y="3603600"/>
                <a:ext cx="318960" cy="314280"/>
              </a:xfrm>
              <a:prstGeom prst="ellipse">
                <a:avLst/>
              </a:prstGeom>
              <a:gradFill rotWithShape="0">
                <a:gsLst>
                  <a:gs pos="0">
                    <a:srgbClr val="990000"/>
                  </a:gs>
                  <a:gs pos="100000">
                    <a:srgbClr val="543522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969160" y="3581280"/>
                <a:ext cx="342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9966"/>
                    </a:solidFill>
                    <a:latin typeface="Arial"/>
                  </a:rPr>
                  <a:t>Q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56" name=""/>
          <p:cNvGrpSpPr/>
          <p:nvPr/>
        </p:nvGrpSpPr>
        <p:grpSpPr>
          <a:xfrm>
            <a:off x="2055960" y="2741400"/>
            <a:ext cx="4585680" cy="1974600"/>
            <a:chOff x="2055960" y="2741400"/>
            <a:chExt cx="4585680" cy="1974600"/>
          </a:xfrm>
        </p:grpSpPr>
        <p:grpSp>
          <p:nvGrpSpPr>
            <p:cNvPr id="357" name=""/>
            <p:cNvGrpSpPr/>
            <p:nvPr/>
          </p:nvGrpSpPr>
          <p:grpSpPr>
            <a:xfrm>
              <a:off x="2456640" y="2741400"/>
              <a:ext cx="4164120" cy="1974600"/>
              <a:chOff x="2456640" y="2741400"/>
              <a:chExt cx="4164120" cy="1974600"/>
            </a:xfrm>
          </p:grpSpPr>
          <p:sp>
            <p:nvSpPr>
              <p:cNvPr id="358" name=""/>
              <p:cNvSpPr/>
              <p:nvPr/>
            </p:nvSpPr>
            <p:spPr>
              <a:xfrm rot="16200000">
                <a:off x="4062960" y="4529520"/>
                <a:ext cx="29808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 rot="16200000">
                <a:off x="4251960" y="4475520"/>
                <a:ext cx="228240" cy="7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 rot="16200000">
                <a:off x="4367880" y="4515120"/>
                <a:ext cx="298080" cy="7488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 rot="16200000">
                <a:off x="4556520" y="4475520"/>
                <a:ext cx="22824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 rot="16200000">
                <a:off x="4672440" y="4515120"/>
                <a:ext cx="298080" cy="7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rot="16200000">
                <a:off x="4861440" y="4551480"/>
                <a:ext cx="22824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 flipV="1">
                <a:off x="2541240" y="2740680"/>
                <a:ext cx="3962520" cy="1752120"/>
              </a:xfrm>
              <a:prstGeom prst="blockArc">
                <a:avLst>
                  <a:gd name="adj1" fmla="val 14424157"/>
                  <a:gd name="adj2" fmla="val 17975843"/>
                  <a:gd name="adj3" fmla="val 15208"/>
                </a:avLst>
              </a:prstGeom>
              <a:gradFill rotWithShape="0">
                <a:gsLst>
                  <a:gs pos="0">
                    <a:srgbClr val="0099ff"/>
                  </a:gs>
                  <a:gs pos="100000">
                    <a:srgbClr val="3333c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65" name=""/>
              <p:cNvGrpSpPr/>
              <p:nvPr/>
            </p:nvGrpSpPr>
            <p:grpSpPr>
              <a:xfrm>
                <a:off x="2456640" y="3852360"/>
                <a:ext cx="1390680" cy="710640"/>
                <a:chOff x="2456640" y="3852360"/>
                <a:chExt cx="1390680" cy="710640"/>
              </a:xfrm>
            </p:grpSpPr>
            <p:sp>
              <p:nvSpPr>
                <p:cNvPr id="366" name=""/>
                <p:cNvSpPr/>
                <p:nvPr/>
              </p:nvSpPr>
              <p:spPr>
                <a:xfrm rot="6124800">
                  <a:off x="3174480" y="440604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 rot="6124800">
                  <a:off x="3042360" y="4299480"/>
                  <a:ext cx="22824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 rot="6124800">
                  <a:off x="2893320" y="426816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 rot="6124800">
                  <a:off x="2728440" y="430992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 rot="6124800">
                  <a:off x="2594880" y="420300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 rot="6124800">
                  <a:off x="2429640" y="424620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 rot="11525400">
                  <a:off x="2473200" y="3990600"/>
                  <a:ext cx="1357200" cy="302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3" name=""/>
              <p:cNvGrpSpPr/>
              <p:nvPr/>
            </p:nvGrpSpPr>
            <p:grpSpPr>
              <a:xfrm>
                <a:off x="5220000" y="3747600"/>
                <a:ext cx="1400760" cy="723240"/>
                <a:chOff x="5220000" y="3747600"/>
                <a:chExt cx="1400760" cy="723240"/>
              </a:xfrm>
            </p:grpSpPr>
            <p:sp>
              <p:nvSpPr>
                <p:cNvPr id="374" name=""/>
                <p:cNvSpPr/>
                <p:nvPr/>
              </p:nvSpPr>
              <p:spPr>
                <a:xfrm rot="15196800">
                  <a:off x="5670000" y="4284000"/>
                  <a:ext cx="22824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 rot="15196800">
                  <a:off x="5837040" y="431352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 rot="15196800">
                  <a:off x="5983560" y="427032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 rot="15196800">
                  <a:off x="6107040" y="415296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 rot="15196800">
                  <a:off x="6275880" y="418284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 rot="15196800">
                  <a:off x="6399720" y="406512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 rot="20596800">
                  <a:off x="5234400" y="3938400"/>
                  <a:ext cx="1371600" cy="302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81" name=""/>
            <p:cNvGrpSpPr/>
            <p:nvPr/>
          </p:nvGrpSpPr>
          <p:grpSpPr>
            <a:xfrm>
              <a:off x="6298920" y="3547800"/>
              <a:ext cx="342720" cy="337320"/>
              <a:chOff x="6298920" y="3547800"/>
              <a:chExt cx="342720" cy="337320"/>
            </a:xfrm>
          </p:grpSpPr>
          <p:sp>
            <p:nvSpPr>
              <p:cNvPr id="382" name=""/>
              <p:cNvSpPr/>
              <p:nvPr/>
            </p:nvSpPr>
            <p:spPr>
              <a:xfrm>
                <a:off x="6311520" y="3569760"/>
                <a:ext cx="318960" cy="313920"/>
              </a:xfrm>
              <a:prstGeom prst="ellipse">
                <a:avLst/>
              </a:prstGeom>
              <a:gradFill rotWithShape="0">
                <a:gsLst>
                  <a:gs pos="0">
                    <a:srgbClr val="990000"/>
                  </a:gs>
                  <a:gs pos="100000">
                    <a:srgbClr val="543522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6298920" y="3547800"/>
                <a:ext cx="342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9966"/>
                    </a:solidFill>
                    <a:latin typeface="Arial"/>
                  </a:rPr>
                  <a:t>Q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84" name=""/>
            <p:cNvGrpSpPr/>
            <p:nvPr/>
          </p:nvGrpSpPr>
          <p:grpSpPr>
            <a:xfrm>
              <a:off x="2055960" y="3350880"/>
              <a:ext cx="966600" cy="972720"/>
              <a:chOff x="2055960" y="3350880"/>
              <a:chExt cx="966600" cy="972720"/>
            </a:xfrm>
          </p:grpSpPr>
          <p:sp>
            <p:nvSpPr>
              <p:cNvPr id="385" name=""/>
              <p:cNvSpPr/>
              <p:nvPr/>
            </p:nvSpPr>
            <p:spPr>
              <a:xfrm>
                <a:off x="2055960" y="3350880"/>
                <a:ext cx="966600" cy="972720"/>
              </a:xfrm>
              <a:prstGeom prst="sun">
                <a:avLst>
                  <a:gd name="adj" fmla="val 33333"/>
                </a:avLst>
              </a:prstGeom>
              <a:gradFill rotWithShape="0">
                <a:gsLst>
                  <a:gs pos="0">
                    <a:srgbClr val="39ff39"/>
                  </a:gs>
                  <a:gs pos="100000">
                    <a:srgbClr val="00cc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2387520" y="3660120"/>
                <a:ext cx="342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9966"/>
                    </a:solidFill>
                    <a:latin typeface="Arial"/>
                  </a:rPr>
                  <a:t>R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87" name=""/>
          <p:cNvGrpSpPr/>
          <p:nvPr/>
        </p:nvGrpSpPr>
        <p:grpSpPr>
          <a:xfrm>
            <a:off x="2446200" y="3352680"/>
            <a:ext cx="4233600" cy="1752480"/>
            <a:chOff x="2446200" y="3352680"/>
            <a:chExt cx="4233600" cy="1752480"/>
          </a:xfrm>
        </p:grpSpPr>
        <p:grpSp>
          <p:nvGrpSpPr>
            <p:cNvPr id="388" name=""/>
            <p:cNvGrpSpPr/>
            <p:nvPr/>
          </p:nvGrpSpPr>
          <p:grpSpPr>
            <a:xfrm>
              <a:off x="2545920" y="3352680"/>
              <a:ext cx="4018320" cy="1752480"/>
              <a:chOff x="2545920" y="3352680"/>
              <a:chExt cx="4018320" cy="1752480"/>
            </a:xfrm>
          </p:grpSpPr>
          <p:sp>
            <p:nvSpPr>
              <p:cNvPr id="389" name=""/>
              <p:cNvSpPr/>
              <p:nvPr/>
            </p:nvSpPr>
            <p:spPr>
              <a:xfrm rot="16200000">
                <a:off x="4048560" y="3692880"/>
                <a:ext cx="29844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 rot="16200000">
                <a:off x="4237560" y="360252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 rot="16200000">
                <a:off x="4353120" y="3641760"/>
                <a:ext cx="298440" cy="7488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 rot="16200000">
                <a:off x="4542120" y="360252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 rot="16200000">
                <a:off x="4658040" y="3642120"/>
                <a:ext cx="298440" cy="745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0099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 rot="16200000">
                <a:off x="4847040" y="3678480"/>
                <a:ext cx="228600" cy="74520"/>
              </a:xfrm>
              <a:prstGeom prst="rect">
                <a:avLst/>
              </a:prstGeom>
              <a:gradFill rotWithShape="0">
                <a:gsLst>
                  <a:gs pos="0">
                    <a:srgbClr val="008080"/>
                  </a:gs>
                  <a:gs pos="50000">
                    <a:srgbClr val="33cccc"/>
                  </a:gs>
                  <a:gs pos="100000">
                    <a:srgbClr val="0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2571480" y="3352680"/>
                <a:ext cx="3962160" cy="1752480"/>
              </a:xfrm>
              <a:prstGeom prst="blockArc">
                <a:avLst>
                  <a:gd name="adj1" fmla="val 14424157"/>
                  <a:gd name="adj2" fmla="val 17975843"/>
                  <a:gd name="adj3" fmla="val 15208"/>
                </a:avLst>
              </a:prstGeom>
              <a:gradFill rotWithShape="0">
                <a:gsLst>
                  <a:gs pos="0">
                    <a:srgbClr val="0099ff"/>
                  </a:gs>
                  <a:gs pos="100000">
                    <a:srgbClr val="3333c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96" name=""/>
              <p:cNvGrpSpPr/>
              <p:nvPr/>
            </p:nvGrpSpPr>
            <p:grpSpPr>
              <a:xfrm>
                <a:off x="2545920" y="3396600"/>
                <a:ext cx="1337760" cy="1077120"/>
                <a:chOff x="2545920" y="3396600"/>
                <a:chExt cx="1337760" cy="1077120"/>
              </a:xfrm>
            </p:grpSpPr>
            <p:sp>
              <p:nvSpPr>
                <p:cNvPr id="397" name=""/>
                <p:cNvSpPr/>
                <p:nvPr/>
              </p:nvSpPr>
              <p:spPr>
                <a:xfrm rot="3694200">
                  <a:off x="3399840" y="395568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 rot="3694200">
                  <a:off x="3230280" y="3960000"/>
                  <a:ext cx="22860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 rot="3694200">
                  <a:off x="3096360" y="403380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0" name=""/>
                <p:cNvSpPr/>
                <p:nvPr/>
              </p:nvSpPr>
              <p:spPr>
                <a:xfrm rot="3694200">
                  <a:off x="2998080" y="417204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1" name=""/>
                <p:cNvSpPr/>
                <p:nvPr/>
              </p:nvSpPr>
              <p:spPr>
                <a:xfrm rot="3694200">
                  <a:off x="2827080" y="417744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 rot="3694200">
                  <a:off x="2729520" y="431784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 rot="9094200">
                  <a:off x="2535840" y="3701160"/>
                  <a:ext cx="1357200" cy="3031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4" name=""/>
              <p:cNvGrpSpPr/>
              <p:nvPr/>
            </p:nvGrpSpPr>
            <p:grpSpPr>
              <a:xfrm>
                <a:off x="5221080" y="3424680"/>
                <a:ext cx="1343160" cy="1024560"/>
                <a:chOff x="5221080" y="3424680"/>
                <a:chExt cx="1343160" cy="1024560"/>
              </a:xfrm>
            </p:grpSpPr>
            <p:sp>
              <p:nvSpPr>
                <p:cNvPr id="405" name=""/>
                <p:cNvSpPr/>
                <p:nvPr/>
              </p:nvSpPr>
              <p:spPr>
                <a:xfrm rot="17967600">
                  <a:off x="5517360" y="3918600"/>
                  <a:ext cx="22860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 rot="17967600">
                  <a:off x="5611680" y="405972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 rot="17967600">
                  <a:off x="5744160" y="413532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 rot="17967600">
                  <a:off x="5914800" y="414324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 rot="17967600">
                  <a:off x="6009840" y="428580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 rot="17967600">
                  <a:off x="6180480" y="429372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 rot="1767600">
                  <a:off x="5206680" y="3742200"/>
                  <a:ext cx="1371600" cy="3031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12" name=""/>
            <p:cNvGrpSpPr/>
            <p:nvPr/>
          </p:nvGrpSpPr>
          <p:grpSpPr>
            <a:xfrm>
              <a:off x="6337080" y="3881160"/>
              <a:ext cx="342720" cy="337320"/>
              <a:chOff x="6337080" y="3881160"/>
              <a:chExt cx="342720" cy="337320"/>
            </a:xfrm>
          </p:grpSpPr>
          <p:sp>
            <p:nvSpPr>
              <p:cNvPr id="413" name=""/>
              <p:cNvSpPr/>
              <p:nvPr/>
            </p:nvSpPr>
            <p:spPr>
              <a:xfrm>
                <a:off x="6349680" y="3903480"/>
                <a:ext cx="318960" cy="314280"/>
              </a:xfrm>
              <a:prstGeom prst="ellipse">
                <a:avLst/>
              </a:prstGeom>
              <a:gradFill rotWithShape="0">
                <a:gsLst>
                  <a:gs pos="0">
                    <a:srgbClr val="990000"/>
                  </a:gs>
                  <a:gs pos="100000">
                    <a:srgbClr val="543522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6337080" y="3881160"/>
                <a:ext cx="342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9966"/>
                    </a:solidFill>
                    <a:latin typeface="Arial"/>
                  </a:rPr>
                  <a:t>Q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15" name=""/>
            <p:cNvGrpSpPr/>
            <p:nvPr/>
          </p:nvGrpSpPr>
          <p:grpSpPr>
            <a:xfrm>
              <a:off x="2446200" y="3805200"/>
              <a:ext cx="347040" cy="337320"/>
              <a:chOff x="2446200" y="3805200"/>
              <a:chExt cx="347040" cy="337320"/>
            </a:xfrm>
          </p:grpSpPr>
          <p:sp>
            <p:nvSpPr>
              <p:cNvPr id="416" name=""/>
              <p:cNvSpPr/>
              <p:nvPr/>
            </p:nvSpPr>
            <p:spPr>
              <a:xfrm>
                <a:off x="2446200" y="3827520"/>
                <a:ext cx="318600" cy="314280"/>
              </a:xfrm>
              <a:prstGeom prst="ellipse">
                <a:avLst/>
              </a:prstGeom>
              <a:gradFill rotWithShape="0">
                <a:gsLst>
                  <a:gs pos="0">
                    <a:srgbClr val="39ff39"/>
                  </a:gs>
                  <a:gs pos="100000">
                    <a:srgbClr val="00cc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2450520" y="3805200"/>
                <a:ext cx="342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9966"/>
                    </a:solidFill>
                    <a:latin typeface="Arial"/>
                  </a:rPr>
                  <a:t>R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18" name=""/>
          <p:cNvSpPr/>
          <p:nvPr/>
        </p:nvSpPr>
        <p:spPr>
          <a:xfrm>
            <a:off x="609480" y="5486400"/>
            <a:ext cx="85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roblem: residual fluorescence due to the insufficient quench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57200" y="198108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Quenchers (azo dyes): DABCYL, BH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6705720" y="1066680"/>
            <a:ext cx="2209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pplication in genetics, disease diagnostics, new drug develop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/>
          <p:nvPr/>
        </p:nvSpPr>
        <p:spPr>
          <a:xfrm>
            <a:off x="7819920" y="4105440"/>
            <a:ext cx="3081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62120" y="2286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SERRS</a:t>
            </a: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 Beacon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23" name=""/>
          <p:cNvGrpSpPr/>
          <p:nvPr/>
        </p:nvGrpSpPr>
        <p:grpSpPr>
          <a:xfrm>
            <a:off x="852480" y="4876920"/>
            <a:ext cx="7543800" cy="521640"/>
            <a:chOff x="852480" y="4876920"/>
            <a:chExt cx="7543800" cy="521640"/>
          </a:xfrm>
        </p:grpSpPr>
        <p:sp>
          <p:nvSpPr>
            <p:cNvPr id="424" name=""/>
            <p:cNvSpPr/>
            <p:nvPr/>
          </p:nvSpPr>
          <p:spPr>
            <a:xfrm rot="16200000">
              <a:off x="4123800" y="5070960"/>
              <a:ext cx="298080" cy="7452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33cccc"/>
                </a:gs>
                <a:gs pos="100000">
                  <a:srgbClr val="0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 rot="16200000">
              <a:off x="4312800" y="4953600"/>
              <a:ext cx="228240" cy="748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0099ff"/>
                </a:gs>
                <a:gs pos="100000">
                  <a:srgbClr val="3333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 rot="16200000">
              <a:off x="4428360" y="5070960"/>
              <a:ext cx="298080" cy="7452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33cccc"/>
                </a:gs>
                <a:gs pos="100000">
                  <a:srgbClr val="0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rot="16200000">
              <a:off x="4617360" y="4953600"/>
              <a:ext cx="228240" cy="7452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33cccc"/>
                </a:gs>
                <a:gs pos="100000">
                  <a:srgbClr val="0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 rot="16200000">
              <a:off x="4733280" y="5070960"/>
              <a:ext cx="298080" cy="7452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0099ff"/>
                </a:gs>
                <a:gs pos="100000">
                  <a:srgbClr val="3333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rot="16200000">
              <a:off x="4922280" y="5029560"/>
              <a:ext cx="228240" cy="7452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33cccc"/>
                </a:gs>
                <a:gs pos="100000">
                  <a:srgbClr val="0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852480" y="5095800"/>
              <a:ext cx="7543800" cy="30276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0099ff"/>
                </a:gs>
                <a:gs pos="100000">
                  <a:srgbClr val="3333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31" name=""/>
          <p:cNvGrpSpPr/>
          <p:nvPr/>
        </p:nvGrpSpPr>
        <p:grpSpPr>
          <a:xfrm>
            <a:off x="3415320" y="1536840"/>
            <a:ext cx="5003640" cy="2963880"/>
            <a:chOff x="3415320" y="1536840"/>
            <a:chExt cx="5003640" cy="2963880"/>
          </a:xfrm>
        </p:grpSpPr>
        <p:grpSp>
          <p:nvGrpSpPr>
            <p:cNvPr id="432" name=""/>
            <p:cNvGrpSpPr/>
            <p:nvPr/>
          </p:nvGrpSpPr>
          <p:grpSpPr>
            <a:xfrm>
              <a:off x="3415320" y="1536840"/>
              <a:ext cx="2826360" cy="2341800"/>
              <a:chOff x="3415320" y="1536840"/>
              <a:chExt cx="2826360" cy="2341800"/>
            </a:xfrm>
          </p:grpSpPr>
          <p:grpSp>
            <p:nvGrpSpPr>
              <p:cNvPr id="433" name=""/>
              <p:cNvGrpSpPr/>
              <p:nvPr/>
            </p:nvGrpSpPr>
            <p:grpSpPr>
              <a:xfrm>
                <a:off x="3415320" y="1536840"/>
                <a:ext cx="2718000" cy="2341800"/>
                <a:chOff x="3415320" y="1536840"/>
                <a:chExt cx="2718000" cy="2341800"/>
              </a:xfrm>
            </p:grpSpPr>
            <p:sp>
              <p:nvSpPr>
                <p:cNvPr id="434" name=""/>
                <p:cNvSpPr/>
                <p:nvPr/>
              </p:nvSpPr>
              <p:spPr>
                <a:xfrm rot="11429400">
                  <a:off x="3889080" y="2980080"/>
                  <a:ext cx="2984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 rot="11429400">
                  <a:off x="3836880" y="280692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6" name=""/>
                <p:cNvSpPr/>
                <p:nvPr/>
              </p:nvSpPr>
              <p:spPr>
                <a:xfrm rot="11429400">
                  <a:off x="3867840" y="2666160"/>
                  <a:ext cx="2984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7" name=""/>
                <p:cNvSpPr/>
                <p:nvPr/>
              </p:nvSpPr>
              <p:spPr>
                <a:xfrm rot="11429400">
                  <a:off x="3892320" y="2507040"/>
                  <a:ext cx="22860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8" name=""/>
                <p:cNvSpPr/>
                <p:nvPr/>
              </p:nvSpPr>
              <p:spPr>
                <a:xfrm rot="11429400">
                  <a:off x="3923280" y="2366280"/>
                  <a:ext cx="29844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9" name=""/>
                <p:cNvSpPr/>
                <p:nvPr/>
              </p:nvSpPr>
              <p:spPr>
                <a:xfrm rot="11429400">
                  <a:off x="4022280" y="222156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0" name=""/>
                <p:cNvSpPr/>
                <p:nvPr/>
              </p:nvSpPr>
              <p:spPr>
                <a:xfrm rot="16829400">
                  <a:off x="5089680" y="262044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1" name=""/>
                <p:cNvSpPr/>
                <p:nvPr/>
              </p:nvSpPr>
              <p:spPr>
                <a:xfrm rot="16829400">
                  <a:off x="5225760" y="272304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2" name=""/>
                <p:cNvSpPr/>
                <p:nvPr/>
              </p:nvSpPr>
              <p:spPr>
                <a:xfrm rot="16829400">
                  <a:off x="5375520" y="2750400"/>
                  <a:ext cx="22860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3" name=""/>
                <p:cNvSpPr/>
                <p:nvPr/>
              </p:nvSpPr>
              <p:spPr>
                <a:xfrm rot="16829400">
                  <a:off x="5539320" y="270360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4" name=""/>
                <p:cNvSpPr/>
                <p:nvPr/>
              </p:nvSpPr>
              <p:spPr>
                <a:xfrm rot="16829400">
                  <a:off x="5675400" y="280620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5" name=""/>
                <p:cNvSpPr/>
                <p:nvPr/>
              </p:nvSpPr>
              <p:spPr>
                <a:xfrm rot="16829400">
                  <a:off x="5838840" y="2758680"/>
                  <a:ext cx="22860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6" name=""/>
                <p:cNvSpPr/>
                <p:nvPr/>
              </p:nvSpPr>
              <p:spPr>
                <a:xfrm rot="16829400">
                  <a:off x="5036760" y="290772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7" name=""/>
                <p:cNvSpPr/>
                <p:nvPr/>
              </p:nvSpPr>
              <p:spPr>
                <a:xfrm rot="16829400">
                  <a:off x="5172480" y="301032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8" name=""/>
                <p:cNvSpPr/>
                <p:nvPr/>
              </p:nvSpPr>
              <p:spPr>
                <a:xfrm rot="16829400">
                  <a:off x="5322240" y="3037680"/>
                  <a:ext cx="22860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9" name=""/>
                <p:cNvSpPr/>
                <p:nvPr/>
              </p:nvSpPr>
              <p:spPr>
                <a:xfrm rot="16829400">
                  <a:off x="5486040" y="299088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0" name=""/>
                <p:cNvSpPr/>
                <p:nvPr/>
              </p:nvSpPr>
              <p:spPr>
                <a:xfrm rot="16829400">
                  <a:off x="5622120" y="309348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1" name=""/>
                <p:cNvSpPr/>
                <p:nvPr/>
              </p:nvSpPr>
              <p:spPr>
                <a:xfrm rot="16829400">
                  <a:off x="5785560" y="3045960"/>
                  <a:ext cx="22860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2" name=""/>
                <p:cNvSpPr/>
                <p:nvPr/>
              </p:nvSpPr>
              <p:spPr>
                <a:xfrm rot="16829400">
                  <a:off x="3435480" y="1831320"/>
                  <a:ext cx="2057400" cy="1752480"/>
                </a:xfrm>
                <a:prstGeom prst="blockArc">
                  <a:avLst>
                    <a:gd name="adj1" fmla="val 6773535"/>
                    <a:gd name="adj2" fmla="val 4026465"/>
                    <a:gd name="adj3" fmla="val 15097"/>
                  </a:avLst>
                </a:prstGeom>
                <a:gradFill rotWithShape="0">
                  <a:gsLst>
                    <a:gs pos="0">
                      <a:srgbClr val="0099ff"/>
                    </a:gs>
                    <a:gs pos="100000">
                      <a:srgbClr val="3333cc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3" name=""/>
                <p:cNvSpPr/>
                <p:nvPr/>
              </p:nvSpPr>
              <p:spPr>
                <a:xfrm rot="629400">
                  <a:off x="4944600" y="3120840"/>
                  <a:ext cx="1028880" cy="3031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4" name=""/>
                <p:cNvSpPr/>
                <p:nvPr/>
              </p:nvSpPr>
              <p:spPr>
                <a:xfrm rot="629400">
                  <a:off x="5085720" y="2394720"/>
                  <a:ext cx="1028520" cy="3034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5" name=""/>
              <p:cNvGrpSpPr/>
              <p:nvPr/>
            </p:nvGrpSpPr>
            <p:grpSpPr>
              <a:xfrm>
                <a:off x="5847480" y="2268360"/>
                <a:ext cx="394200" cy="398520"/>
                <a:chOff x="5847480" y="2268360"/>
                <a:chExt cx="394200" cy="398520"/>
              </a:xfrm>
            </p:grpSpPr>
            <p:sp>
              <p:nvSpPr>
                <p:cNvPr id="456" name=""/>
                <p:cNvSpPr/>
                <p:nvPr/>
              </p:nvSpPr>
              <p:spPr>
                <a:xfrm rot="16829400">
                  <a:off x="5895360" y="2311560"/>
                  <a:ext cx="318960" cy="314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00"/>
                    </a:gs>
                    <a:gs pos="100000">
                      <a:srgbClr val="543522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7" name=""/>
                <p:cNvSpPr/>
                <p:nvPr/>
              </p:nvSpPr>
              <p:spPr>
                <a:xfrm rot="16829400">
                  <a:off x="5873040" y="2298600"/>
                  <a:ext cx="3427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9966"/>
                      </a:solidFill>
                      <a:latin typeface="Arial"/>
                    </a:rPr>
                    <a:t>Q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8" name=""/>
              <p:cNvGrpSpPr/>
              <p:nvPr/>
            </p:nvGrpSpPr>
            <p:grpSpPr>
              <a:xfrm>
                <a:off x="5665320" y="3251880"/>
                <a:ext cx="394200" cy="398520"/>
                <a:chOff x="5665320" y="3251880"/>
                <a:chExt cx="394200" cy="398520"/>
              </a:xfrm>
            </p:grpSpPr>
            <p:sp>
              <p:nvSpPr>
                <p:cNvPr id="459" name=""/>
                <p:cNvSpPr/>
                <p:nvPr/>
              </p:nvSpPr>
              <p:spPr>
                <a:xfrm rot="16829400">
                  <a:off x="5711400" y="3307320"/>
                  <a:ext cx="318600" cy="314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00"/>
                    </a:gs>
                    <a:gs pos="100000">
                      <a:srgbClr val="0033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0" name=""/>
                <p:cNvSpPr/>
                <p:nvPr/>
              </p:nvSpPr>
              <p:spPr>
                <a:xfrm rot="16829400">
                  <a:off x="5690880" y="3282120"/>
                  <a:ext cx="3427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9966"/>
                      </a:solidFill>
                      <a:latin typeface="Arial"/>
                    </a:rPr>
                    <a:t>R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61" name=""/>
            <p:cNvSpPr/>
            <p:nvPr/>
          </p:nvSpPr>
          <p:spPr>
            <a:xfrm rot="20439600">
              <a:off x="5943600" y="2209680"/>
              <a:ext cx="2209680" cy="1981080"/>
            </a:xfrm>
            <a:prstGeom prst="hexagon">
              <a:avLst>
                <a:gd name="adj" fmla="val 27885"/>
                <a:gd name="vf" fmla="val 115470"/>
              </a:avLst>
            </a:prstGeom>
            <a:gradFill rotWithShape="0">
              <a:gsLst>
                <a:gs pos="0">
                  <a:srgbClr val="00ff00"/>
                </a:gs>
                <a:gs pos="100000">
                  <a:srgbClr val="008a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62" name=""/>
          <p:cNvGrpSpPr/>
          <p:nvPr/>
        </p:nvGrpSpPr>
        <p:grpSpPr>
          <a:xfrm>
            <a:off x="3362040" y="1905480"/>
            <a:ext cx="4649400" cy="2688840"/>
            <a:chOff x="3362040" y="1905480"/>
            <a:chExt cx="4649400" cy="2688840"/>
          </a:xfrm>
        </p:grpSpPr>
        <p:grpSp>
          <p:nvGrpSpPr>
            <p:cNvPr id="463" name=""/>
            <p:cNvGrpSpPr/>
            <p:nvPr/>
          </p:nvGrpSpPr>
          <p:grpSpPr>
            <a:xfrm>
              <a:off x="3362040" y="1905480"/>
              <a:ext cx="2543400" cy="2688840"/>
              <a:chOff x="3362040" y="1905480"/>
              <a:chExt cx="2543400" cy="2688840"/>
            </a:xfrm>
          </p:grpSpPr>
          <p:grpSp>
            <p:nvGrpSpPr>
              <p:cNvPr id="464" name=""/>
              <p:cNvGrpSpPr/>
              <p:nvPr/>
            </p:nvGrpSpPr>
            <p:grpSpPr>
              <a:xfrm>
                <a:off x="3362040" y="1905480"/>
                <a:ext cx="2422440" cy="2559240"/>
                <a:chOff x="3362040" y="1905480"/>
                <a:chExt cx="2422440" cy="2559240"/>
              </a:xfrm>
            </p:grpSpPr>
            <p:sp>
              <p:nvSpPr>
                <p:cNvPr id="465" name=""/>
                <p:cNvSpPr/>
                <p:nvPr/>
              </p:nvSpPr>
              <p:spPr>
                <a:xfrm rot="12001800">
                  <a:off x="3866760" y="3351240"/>
                  <a:ext cx="29808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6" name=""/>
                <p:cNvSpPr/>
                <p:nvPr/>
              </p:nvSpPr>
              <p:spPr>
                <a:xfrm rot="12001800">
                  <a:off x="3843720" y="316584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7" name=""/>
                <p:cNvSpPr/>
                <p:nvPr/>
              </p:nvSpPr>
              <p:spPr>
                <a:xfrm rot="12001800">
                  <a:off x="3898080" y="3037680"/>
                  <a:ext cx="29808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8" name=""/>
                <p:cNvSpPr/>
                <p:nvPr/>
              </p:nvSpPr>
              <p:spPr>
                <a:xfrm rot="12001800">
                  <a:off x="3947760" y="2879280"/>
                  <a:ext cx="22824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 rot="12001800">
                  <a:off x="4002120" y="2751480"/>
                  <a:ext cx="29808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0" name=""/>
                <p:cNvSpPr/>
                <p:nvPr/>
              </p:nvSpPr>
              <p:spPr>
                <a:xfrm rot="12001800">
                  <a:off x="4124160" y="261936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1" name=""/>
                <p:cNvSpPr/>
                <p:nvPr/>
              </p:nvSpPr>
              <p:spPr>
                <a:xfrm rot="17401800">
                  <a:off x="3508920" y="2295720"/>
                  <a:ext cx="2057400" cy="1752480"/>
                </a:xfrm>
                <a:prstGeom prst="blockArc">
                  <a:avLst>
                    <a:gd name="adj1" fmla="val 11000679"/>
                    <a:gd name="adj2" fmla="val 21399321"/>
                    <a:gd name="adj3" fmla="val 14292"/>
                  </a:avLst>
                </a:prstGeom>
                <a:gradFill rotWithShape="0">
                  <a:gsLst>
                    <a:gs pos="0">
                      <a:srgbClr val="0099ff"/>
                    </a:gs>
                    <a:gs pos="100000">
                      <a:srgbClr val="3333cc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72" name=""/>
                <p:cNvGrpSpPr/>
                <p:nvPr/>
              </p:nvGrpSpPr>
              <p:grpSpPr>
                <a:xfrm>
                  <a:off x="4113720" y="3651840"/>
                  <a:ext cx="1074600" cy="812880"/>
                  <a:chOff x="4113720" y="3651840"/>
                  <a:chExt cx="1074600" cy="812880"/>
                </a:xfrm>
              </p:grpSpPr>
              <p:sp>
                <p:nvSpPr>
                  <p:cNvPr id="473" name=""/>
                  <p:cNvSpPr/>
                  <p:nvPr/>
                </p:nvSpPr>
                <p:spPr>
                  <a:xfrm rot="17401800">
                    <a:off x="4284000" y="373464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4" name=""/>
                  <p:cNvSpPr/>
                  <p:nvPr/>
                </p:nvSpPr>
                <p:spPr>
                  <a:xfrm rot="17401800">
                    <a:off x="4401000" y="385848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5" name=""/>
                  <p:cNvSpPr/>
                  <p:nvPr/>
                </p:nvSpPr>
                <p:spPr>
                  <a:xfrm rot="17401800">
                    <a:off x="4544280" y="391068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6" name=""/>
                  <p:cNvSpPr/>
                  <p:nvPr/>
                </p:nvSpPr>
                <p:spPr>
                  <a:xfrm rot="17401800">
                    <a:off x="4713120" y="389124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7" name=""/>
                  <p:cNvSpPr/>
                  <p:nvPr/>
                </p:nvSpPr>
                <p:spPr>
                  <a:xfrm rot="17401800">
                    <a:off x="4830480" y="401508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8" name=""/>
                  <p:cNvSpPr/>
                  <p:nvPr/>
                </p:nvSpPr>
                <p:spPr>
                  <a:xfrm rot="17401800">
                    <a:off x="5000040" y="399564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9" name=""/>
                  <p:cNvSpPr/>
                  <p:nvPr/>
                </p:nvSpPr>
                <p:spPr>
                  <a:xfrm rot="1201800">
                    <a:off x="4134240" y="3994560"/>
                    <a:ext cx="1028160" cy="3031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80" name=""/>
                <p:cNvGrpSpPr/>
                <p:nvPr/>
              </p:nvGrpSpPr>
              <p:grpSpPr>
                <a:xfrm>
                  <a:off x="4714560" y="2178360"/>
                  <a:ext cx="1069920" cy="763200"/>
                  <a:chOff x="4714560" y="2178360"/>
                  <a:chExt cx="1069920" cy="763200"/>
                </a:xfrm>
              </p:grpSpPr>
              <p:sp>
                <p:nvSpPr>
                  <p:cNvPr id="481" name=""/>
                  <p:cNvSpPr/>
                  <p:nvPr/>
                </p:nvSpPr>
                <p:spPr>
                  <a:xfrm rot="17401800">
                    <a:off x="4726080" y="250380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2" name=""/>
                  <p:cNvSpPr/>
                  <p:nvPr/>
                </p:nvSpPr>
                <p:spPr>
                  <a:xfrm rot="17401800">
                    <a:off x="4843080" y="262728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3" name=""/>
                  <p:cNvSpPr/>
                  <p:nvPr/>
                </p:nvSpPr>
                <p:spPr>
                  <a:xfrm rot="17401800">
                    <a:off x="4986720" y="267948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4" name=""/>
                  <p:cNvSpPr/>
                  <p:nvPr/>
                </p:nvSpPr>
                <p:spPr>
                  <a:xfrm rot="17401800">
                    <a:off x="5155560" y="266004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5" name=""/>
                  <p:cNvSpPr/>
                  <p:nvPr/>
                </p:nvSpPr>
                <p:spPr>
                  <a:xfrm rot="17401800">
                    <a:off x="5272560" y="278388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6" name=""/>
                  <p:cNvSpPr/>
                  <p:nvPr/>
                </p:nvSpPr>
                <p:spPr>
                  <a:xfrm rot="17401800">
                    <a:off x="5441760" y="276444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7" name=""/>
                  <p:cNvSpPr/>
                  <p:nvPr/>
                </p:nvSpPr>
                <p:spPr>
                  <a:xfrm rot="1201800">
                    <a:off x="4735440" y="2345040"/>
                    <a:ext cx="1028160" cy="3034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88" name=""/>
              <p:cNvGrpSpPr/>
              <p:nvPr/>
            </p:nvGrpSpPr>
            <p:grpSpPr>
              <a:xfrm>
                <a:off x="4792680" y="4156920"/>
                <a:ext cx="434160" cy="437400"/>
                <a:chOff x="4792680" y="4156920"/>
                <a:chExt cx="434160" cy="437400"/>
              </a:xfrm>
            </p:grpSpPr>
            <p:sp>
              <p:nvSpPr>
                <p:cNvPr id="489" name=""/>
                <p:cNvSpPr/>
                <p:nvPr/>
              </p:nvSpPr>
              <p:spPr>
                <a:xfrm rot="17401800">
                  <a:off x="4855680" y="4232880"/>
                  <a:ext cx="318600" cy="313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00"/>
                    </a:gs>
                    <a:gs pos="100000">
                      <a:srgbClr val="0033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0" name=""/>
                <p:cNvSpPr/>
                <p:nvPr/>
              </p:nvSpPr>
              <p:spPr>
                <a:xfrm rot="17401800">
                  <a:off x="4838400" y="4206600"/>
                  <a:ext cx="3427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9966"/>
                      </a:solidFill>
                      <a:latin typeface="Arial"/>
                    </a:rPr>
                    <a:t>R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1" name=""/>
              <p:cNvGrpSpPr/>
              <p:nvPr/>
            </p:nvGrpSpPr>
            <p:grpSpPr>
              <a:xfrm>
                <a:off x="5471280" y="2295360"/>
                <a:ext cx="434160" cy="437400"/>
                <a:chOff x="5471280" y="2295360"/>
                <a:chExt cx="434160" cy="437400"/>
              </a:xfrm>
            </p:grpSpPr>
            <p:sp>
              <p:nvSpPr>
                <p:cNvPr id="492" name=""/>
                <p:cNvSpPr/>
                <p:nvPr/>
              </p:nvSpPr>
              <p:spPr>
                <a:xfrm rot="17401800">
                  <a:off x="5538960" y="2359800"/>
                  <a:ext cx="318960" cy="313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00"/>
                    </a:gs>
                    <a:gs pos="100000">
                      <a:srgbClr val="543522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 rot="17401800">
                  <a:off x="5517000" y="2345040"/>
                  <a:ext cx="3427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9966"/>
                      </a:solidFill>
                      <a:latin typeface="Arial"/>
                    </a:rPr>
                    <a:t>Q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94" name=""/>
            <p:cNvSpPr/>
            <p:nvPr/>
          </p:nvSpPr>
          <p:spPr>
            <a:xfrm rot="20734200">
              <a:off x="5589720" y="2170440"/>
              <a:ext cx="2209680" cy="1981080"/>
            </a:xfrm>
            <a:prstGeom prst="hexagon">
              <a:avLst>
                <a:gd name="adj" fmla="val 27885"/>
                <a:gd name="vf" fmla="val 115470"/>
              </a:avLst>
            </a:prstGeom>
            <a:gradFill rotWithShape="0">
              <a:gsLst>
                <a:gs pos="0">
                  <a:srgbClr val="00ff00"/>
                </a:gs>
                <a:gs pos="100000">
                  <a:srgbClr val="008a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95" name=""/>
          <p:cNvGrpSpPr/>
          <p:nvPr/>
        </p:nvGrpSpPr>
        <p:grpSpPr>
          <a:xfrm>
            <a:off x="3334680" y="2068560"/>
            <a:ext cx="5160600" cy="2813400"/>
            <a:chOff x="3334680" y="2068560"/>
            <a:chExt cx="5160600" cy="2813400"/>
          </a:xfrm>
        </p:grpSpPr>
        <p:grpSp>
          <p:nvGrpSpPr>
            <p:cNvPr id="496" name=""/>
            <p:cNvGrpSpPr/>
            <p:nvPr/>
          </p:nvGrpSpPr>
          <p:grpSpPr>
            <a:xfrm>
              <a:off x="3334680" y="2068560"/>
              <a:ext cx="2980080" cy="2588040"/>
              <a:chOff x="3334680" y="2068560"/>
              <a:chExt cx="2980080" cy="2588040"/>
            </a:xfrm>
          </p:grpSpPr>
          <p:grpSp>
            <p:nvGrpSpPr>
              <p:cNvPr id="497" name=""/>
              <p:cNvGrpSpPr/>
              <p:nvPr/>
            </p:nvGrpSpPr>
            <p:grpSpPr>
              <a:xfrm>
                <a:off x="3334680" y="2068560"/>
                <a:ext cx="2795400" cy="2541240"/>
                <a:chOff x="3334680" y="2068560"/>
                <a:chExt cx="2795400" cy="2541240"/>
              </a:xfrm>
            </p:grpSpPr>
            <p:sp>
              <p:nvSpPr>
                <p:cNvPr id="498" name=""/>
                <p:cNvSpPr/>
                <p:nvPr/>
              </p:nvSpPr>
              <p:spPr>
                <a:xfrm rot="14418000">
                  <a:off x="3975120" y="3129480"/>
                  <a:ext cx="29808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 rot="14418000">
                  <a:off x="4085280" y="295056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0" name=""/>
                <p:cNvSpPr/>
                <p:nvPr/>
              </p:nvSpPr>
              <p:spPr>
                <a:xfrm rot="14418000">
                  <a:off x="4201200" y="2910600"/>
                  <a:ext cx="29808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1" name=""/>
                <p:cNvSpPr/>
                <p:nvPr/>
              </p:nvSpPr>
              <p:spPr>
                <a:xfrm rot="14418000">
                  <a:off x="4350240" y="2800080"/>
                  <a:ext cx="22824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 rot="14418000">
                  <a:off x="4466160" y="2760120"/>
                  <a:ext cx="29808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3" name=""/>
                <p:cNvSpPr/>
                <p:nvPr/>
              </p:nvSpPr>
              <p:spPr>
                <a:xfrm rot="14418000">
                  <a:off x="4653000" y="2715120"/>
                  <a:ext cx="228240" cy="74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4" name=""/>
                <p:cNvSpPr/>
                <p:nvPr/>
              </p:nvSpPr>
              <p:spPr>
                <a:xfrm rot="19818000">
                  <a:off x="3633480" y="2462760"/>
                  <a:ext cx="2057040" cy="1752480"/>
                </a:xfrm>
                <a:prstGeom prst="blockArc">
                  <a:avLst>
                    <a:gd name="adj1" fmla="val 12222482"/>
                    <a:gd name="adj2" fmla="val 20177518"/>
                    <a:gd name="adj3" fmla="val 14861"/>
                  </a:avLst>
                </a:prstGeom>
                <a:gradFill rotWithShape="0">
                  <a:gsLst>
                    <a:gs pos="0">
                      <a:srgbClr val="0099ff"/>
                    </a:gs>
                    <a:gs pos="100000">
                      <a:srgbClr val="3333cc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05" name=""/>
                <p:cNvGrpSpPr/>
                <p:nvPr/>
              </p:nvGrpSpPr>
              <p:grpSpPr>
                <a:xfrm>
                  <a:off x="3656160" y="3420000"/>
                  <a:ext cx="604440" cy="1049040"/>
                  <a:chOff x="3656160" y="3420000"/>
                  <a:chExt cx="604440" cy="1049040"/>
                </a:xfrm>
              </p:grpSpPr>
              <p:sp>
                <p:nvSpPr>
                  <p:cNvPr id="506" name=""/>
                  <p:cNvSpPr/>
                  <p:nvPr/>
                </p:nvSpPr>
                <p:spPr>
                  <a:xfrm rot="21330000">
                    <a:off x="3970080" y="352440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7" name=""/>
                  <p:cNvSpPr/>
                  <p:nvPr/>
                </p:nvSpPr>
                <p:spPr>
                  <a:xfrm rot="21330000">
                    <a:off x="3905640" y="3682080"/>
                    <a:ext cx="228240" cy="748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8080" bIns="280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8" name=""/>
                  <p:cNvSpPr/>
                  <p:nvPr/>
                </p:nvSpPr>
                <p:spPr>
                  <a:xfrm rot="21330000">
                    <a:off x="3917880" y="383436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9" name=""/>
                  <p:cNvSpPr/>
                  <p:nvPr/>
                </p:nvSpPr>
                <p:spPr>
                  <a:xfrm rot="21330000">
                    <a:off x="4005720" y="398016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0" name=""/>
                  <p:cNvSpPr/>
                  <p:nvPr/>
                </p:nvSpPr>
                <p:spPr>
                  <a:xfrm rot="21330000">
                    <a:off x="3941640" y="4137840"/>
                    <a:ext cx="228240" cy="748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8080" bIns="280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1" name=""/>
                  <p:cNvSpPr/>
                  <p:nvPr/>
                </p:nvSpPr>
                <p:spPr>
                  <a:xfrm rot="21330000">
                    <a:off x="4029840" y="428400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2" name=""/>
                  <p:cNvSpPr/>
                  <p:nvPr/>
                </p:nvSpPr>
                <p:spPr>
                  <a:xfrm rot="5130600">
                    <a:off x="3332880" y="3792960"/>
                    <a:ext cx="1028520" cy="3027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13" name=""/>
                <p:cNvGrpSpPr/>
                <p:nvPr/>
              </p:nvGrpSpPr>
              <p:grpSpPr>
                <a:xfrm>
                  <a:off x="5093640" y="2536560"/>
                  <a:ext cx="1036440" cy="871920"/>
                  <a:chOff x="5093640" y="2536560"/>
                  <a:chExt cx="1036440" cy="871920"/>
                </a:xfrm>
              </p:grpSpPr>
              <p:sp>
                <p:nvSpPr>
                  <p:cNvPr id="514" name=""/>
                  <p:cNvSpPr/>
                  <p:nvPr/>
                </p:nvSpPr>
                <p:spPr>
                  <a:xfrm rot="18075000">
                    <a:off x="5087880" y="285876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5" name=""/>
                  <p:cNvSpPr/>
                  <p:nvPr/>
                </p:nvSpPr>
                <p:spPr>
                  <a:xfrm rot="18075000">
                    <a:off x="5178600" y="300276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6" name=""/>
                  <p:cNvSpPr/>
                  <p:nvPr/>
                </p:nvSpPr>
                <p:spPr>
                  <a:xfrm rot="18075000">
                    <a:off x="5308920" y="308160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7" name=""/>
                  <p:cNvSpPr/>
                  <p:nvPr/>
                </p:nvSpPr>
                <p:spPr>
                  <a:xfrm rot="18075000">
                    <a:off x="5478480" y="309600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8" name=""/>
                  <p:cNvSpPr/>
                  <p:nvPr/>
                </p:nvSpPr>
                <p:spPr>
                  <a:xfrm rot="18075000">
                    <a:off x="5569200" y="324000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9" name=""/>
                  <p:cNvSpPr/>
                  <p:nvPr/>
                </p:nvSpPr>
                <p:spPr>
                  <a:xfrm rot="18075000">
                    <a:off x="5739120" y="325404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0" name=""/>
                  <p:cNvSpPr/>
                  <p:nvPr/>
                </p:nvSpPr>
                <p:spPr>
                  <a:xfrm rot="1875000">
                    <a:off x="5097600" y="2781000"/>
                    <a:ext cx="1028520" cy="3034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21" name=""/>
              <p:cNvGrpSpPr/>
              <p:nvPr/>
            </p:nvGrpSpPr>
            <p:grpSpPr>
              <a:xfrm>
                <a:off x="3571200" y="4193640"/>
                <a:ext cx="464760" cy="462960"/>
                <a:chOff x="3571200" y="4193640"/>
                <a:chExt cx="464760" cy="462960"/>
              </a:xfrm>
            </p:grpSpPr>
            <p:sp>
              <p:nvSpPr>
                <p:cNvPr id="522" name=""/>
                <p:cNvSpPr/>
                <p:nvPr/>
              </p:nvSpPr>
              <p:spPr>
                <a:xfrm rot="19818000">
                  <a:off x="3638880" y="4282920"/>
                  <a:ext cx="318600" cy="314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00"/>
                    </a:gs>
                    <a:gs pos="100000">
                      <a:srgbClr val="0033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3" name=""/>
                <p:cNvSpPr/>
                <p:nvPr/>
              </p:nvSpPr>
              <p:spPr>
                <a:xfrm rot="19818000">
                  <a:off x="3632040" y="4256280"/>
                  <a:ext cx="3427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9966"/>
                      </a:solidFill>
                      <a:latin typeface="Arial"/>
                    </a:rPr>
                    <a:t>R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4" name=""/>
              <p:cNvGrpSpPr/>
              <p:nvPr/>
            </p:nvGrpSpPr>
            <p:grpSpPr>
              <a:xfrm>
                <a:off x="5850000" y="2805840"/>
                <a:ext cx="464760" cy="462960"/>
                <a:chOff x="5850000" y="2805840"/>
                <a:chExt cx="464760" cy="462960"/>
              </a:xfrm>
            </p:grpSpPr>
            <p:sp>
              <p:nvSpPr>
                <p:cNvPr id="525" name=""/>
                <p:cNvSpPr/>
                <p:nvPr/>
              </p:nvSpPr>
              <p:spPr>
                <a:xfrm rot="19818000">
                  <a:off x="5928840" y="2889360"/>
                  <a:ext cx="318960" cy="314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00"/>
                    </a:gs>
                    <a:gs pos="100000">
                      <a:srgbClr val="543522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 rot="19818000">
                  <a:off x="5910840" y="2868480"/>
                  <a:ext cx="3427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9966"/>
                      </a:solidFill>
                      <a:latin typeface="Arial"/>
                    </a:rPr>
                    <a:t>Q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27" name=""/>
            <p:cNvSpPr/>
            <p:nvPr/>
          </p:nvSpPr>
          <p:spPr>
            <a:xfrm rot="20439600">
              <a:off x="6019920" y="2590560"/>
              <a:ext cx="2209680" cy="1981440"/>
            </a:xfrm>
            <a:prstGeom prst="hexagon">
              <a:avLst>
                <a:gd name="adj" fmla="val 27880"/>
                <a:gd name="vf" fmla="val 115470"/>
              </a:avLst>
            </a:prstGeom>
            <a:gradFill rotWithShape="0">
              <a:gsLst>
                <a:gs pos="0">
                  <a:srgbClr val="00ff00"/>
                </a:gs>
                <a:gs pos="100000">
                  <a:srgbClr val="008a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28" name=""/>
          <p:cNvGrpSpPr/>
          <p:nvPr/>
        </p:nvGrpSpPr>
        <p:grpSpPr>
          <a:xfrm>
            <a:off x="3051000" y="2020680"/>
            <a:ext cx="5753160" cy="2815920"/>
            <a:chOff x="3051000" y="2020680"/>
            <a:chExt cx="5753160" cy="2815920"/>
          </a:xfrm>
        </p:grpSpPr>
        <p:grpSp>
          <p:nvGrpSpPr>
            <p:cNvPr id="529" name=""/>
            <p:cNvGrpSpPr/>
            <p:nvPr/>
          </p:nvGrpSpPr>
          <p:grpSpPr>
            <a:xfrm>
              <a:off x="3051000" y="2437560"/>
              <a:ext cx="3376440" cy="2389680"/>
              <a:chOff x="3051000" y="2437560"/>
              <a:chExt cx="3376440" cy="2389680"/>
            </a:xfrm>
          </p:grpSpPr>
          <p:grpSp>
            <p:nvGrpSpPr>
              <p:cNvPr id="530" name=""/>
              <p:cNvGrpSpPr/>
              <p:nvPr/>
            </p:nvGrpSpPr>
            <p:grpSpPr>
              <a:xfrm>
                <a:off x="3222000" y="2437560"/>
                <a:ext cx="3026880" cy="2389680"/>
                <a:chOff x="3222000" y="2437560"/>
                <a:chExt cx="3026880" cy="2389680"/>
              </a:xfrm>
            </p:grpSpPr>
            <p:sp>
              <p:nvSpPr>
                <p:cNvPr id="531" name=""/>
                <p:cNvSpPr/>
                <p:nvPr/>
              </p:nvSpPr>
              <p:spPr>
                <a:xfrm rot="15168000">
                  <a:off x="4060800" y="3299400"/>
                  <a:ext cx="2984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2" name=""/>
                <p:cNvSpPr/>
                <p:nvPr/>
              </p:nvSpPr>
              <p:spPr>
                <a:xfrm rot="15168000">
                  <a:off x="4208040" y="314172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3" name=""/>
                <p:cNvSpPr/>
                <p:nvPr/>
              </p:nvSpPr>
              <p:spPr>
                <a:xfrm rot="15168000">
                  <a:off x="4329000" y="3134880"/>
                  <a:ext cx="2984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4" name=""/>
                <p:cNvSpPr/>
                <p:nvPr/>
              </p:nvSpPr>
              <p:spPr>
                <a:xfrm rot="15168000">
                  <a:off x="4499280" y="305136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5" name=""/>
                <p:cNvSpPr/>
                <p:nvPr/>
              </p:nvSpPr>
              <p:spPr>
                <a:xfrm rot="15168000">
                  <a:off x="4620240" y="3044880"/>
                  <a:ext cx="29844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6" name=""/>
                <p:cNvSpPr/>
                <p:nvPr/>
              </p:nvSpPr>
              <p:spPr>
                <a:xfrm rot="15168000">
                  <a:off x="4812840" y="303444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 rot="20568000">
                  <a:off x="3453480" y="2755800"/>
                  <a:ext cx="2420640" cy="1752480"/>
                </a:xfrm>
                <a:prstGeom prst="blockArc">
                  <a:avLst>
                    <a:gd name="adj1" fmla="val 13102124"/>
                    <a:gd name="adj2" fmla="val 19297876"/>
                    <a:gd name="adj3" fmla="val 15417"/>
                  </a:avLst>
                </a:prstGeom>
                <a:gradFill rotWithShape="0">
                  <a:gsLst>
                    <a:gs pos="0">
                      <a:srgbClr val="0099ff"/>
                    </a:gs>
                    <a:gs pos="100000">
                      <a:srgbClr val="3333cc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38" name=""/>
                <p:cNvGrpSpPr/>
                <p:nvPr/>
              </p:nvGrpSpPr>
              <p:grpSpPr>
                <a:xfrm>
                  <a:off x="3222000" y="3366720"/>
                  <a:ext cx="868680" cy="1086120"/>
                  <a:chOff x="3222000" y="3366720"/>
                  <a:chExt cx="868680" cy="1086120"/>
                </a:xfrm>
              </p:grpSpPr>
              <p:sp>
                <p:nvSpPr>
                  <p:cNvPr id="539" name=""/>
                  <p:cNvSpPr/>
                  <p:nvPr/>
                </p:nvSpPr>
                <p:spPr>
                  <a:xfrm rot="1501800">
                    <a:off x="3857040" y="364284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0" name=""/>
                  <p:cNvSpPr/>
                  <p:nvPr/>
                </p:nvSpPr>
                <p:spPr>
                  <a:xfrm rot="1501800">
                    <a:off x="3723480" y="3748320"/>
                    <a:ext cx="228600" cy="748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8080" bIns="280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1" name=""/>
                  <p:cNvSpPr/>
                  <p:nvPr/>
                </p:nvSpPr>
                <p:spPr>
                  <a:xfrm rot="1501800">
                    <a:off x="3658680" y="388656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2" name=""/>
                  <p:cNvSpPr/>
                  <p:nvPr/>
                </p:nvSpPr>
                <p:spPr>
                  <a:xfrm rot="1501800">
                    <a:off x="3663720" y="405720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3" name=""/>
                  <p:cNvSpPr/>
                  <p:nvPr/>
                </p:nvSpPr>
                <p:spPr>
                  <a:xfrm rot="1501800">
                    <a:off x="3530160" y="4162680"/>
                    <a:ext cx="228600" cy="748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8080" bIns="280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4" name=""/>
                  <p:cNvSpPr/>
                  <p:nvPr/>
                </p:nvSpPr>
                <p:spPr>
                  <a:xfrm rot="1501800">
                    <a:off x="3534840" y="433332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5" name=""/>
                  <p:cNvSpPr/>
                  <p:nvPr/>
                </p:nvSpPr>
                <p:spPr>
                  <a:xfrm rot="6902400">
                    <a:off x="3062520" y="3745080"/>
                    <a:ext cx="1028520" cy="3031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46" name=""/>
                <p:cNvGrpSpPr/>
                <p:nvPr/>
              </p:nvGrpSpPr>
              <p:grpSpPr>
                <a:xfrm>
                  <a:off x="5188320" y="2826000"/>
                  <a:ext cx="1060560" cy="808200"/>
                  <a:chOff x="5188320" y="2826000"/>
                  <a:chExt cx="1060560" cy="808200"/>
                </a:xfrm>
              </p:grpSpPr>
              <p:sp>
                <p:nvSpPr>
                  <p:cNvPr id="547" name=""/>
                  <p:cNvSpPr/>
                  <p:nvPr/>
                </p:nvSpPr>
                <p:spPr>
                  <a:xfrm rot="17697600">
                    <a:off x="5192640" y="315180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8" name=""/>
                  <p:cNvSpPr/>
                  <p:nvPr/>
                </p:nvSpPr>
                <p:spPr>
                  <a:xfrm rot="17697600">
                    <a:off x="5299200" y="328500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9" name=""/>
                  <p:cNvSpPr/>
                  <p:nvPr/>
                </p:nvSpPr>
                <p:spPr>
                  <a:xfrm rot="17697600">
                    <a:off x="5437080" y="334944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0" name=""/>
                  <p:cNvSpPr/>
                  <p:nvPr/>
                </p:nvSpPr>
                <p:spPr>
                  <a:xfrm rot="17697600">
                    <a:off x="5607000" y="334476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1" name=""/>
                  <p:cNvSpPr/>
                  <p:nvPr/>
                </p:nvSpPr>
                <p:spPr>
                  <a:xfrm rot="17697600">
                    <a:off x="5713560" y="347760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2" name=""/>
                  <p:cNvSpPr/>
                  <p:nvPr/>
                </p:nvSpPr>
                <p:spPr>
                  <a:xfrm rot="17697600">
                    <a:off x="5883480" y="3473640"/>
                    <a:ext cx="228600" cy="741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3" name=""/>
                  <p:cNvSpPr/>
                  <p:nvPr/>
                </p:nvSpPr>
                <p:spPr>
                  <a:xfrm rot="1497600">
                    <a:off x="5204160" y="3028680"/>
                    <a:ext cx="1028520" cy="3034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54" name=""/>
              <p:cNvGrpSpPr/>
              <p:nvPr/>
            </p:nvGrpSpPr>
            <p:grpSpPr>
              <a:xfrm>
                <a:off x="3051000" y="4036320"/>
                <a:ext cx="427320" cy="423720"/>
                <a:chOff x="3051000" y="4036320"/>
                <a:chExt cx="427320" cy="423720"/>
              </a:xfrm>
            </p:grpSpPr>
            <p:sp>
              <p:nvSpPr>
                <p:cNvPr id="555" name=""/>
                <p:cNvSpPr/>
                <p:nvPr/>
              </p:nvSpPr>
              <p:spPr>
                <a:xfrm rot="20568000">
                  <a:off x="3097080" y="4104720"/>
                  <a:ext cx="318960" cy="314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00"/>
                    </a:gs>
                    <a:gs pos="100000">
                      <a:srgbClr val="0033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6" name=""/>
                <p:cNvSpPr/>
                <p:nvPr/>
              </p:nvSpPr>
              <p:spPr>
                <a:xfrm rot="20568000">
                  <a:off x="3093120" y="4079520"/>
                  <a:ext cx="3430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9966"/>
                      </a:solidFill>
                      <a:latin typeface="Arial"/>
                    </a:rPr>
                    <a:t>R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7" name=""/>
              <p:cNvGrpSpPr/>
              <p:nvPr/>
            </p:nvGrpSpPr>
            <p:grpSpPr>
              <a:xfrm>
                <a:off x="6000120" y="2997360"/>
                <a:ext cx="427320" cy="423720"/>
                <a:chOff x="6000120" y="2997360"/>
                <a:chExt cx="427320" cy="423720"/>
              </a:xfrm>
            </p:grpSpPr>
            <p:sp>
              <p:nvSpPr>
                <p:cNvPr id="558" name=""/>
                <p:cNvSpPr/>
                <p:nvPr/>
              </p:nvSpPr>
              <p:spPr>
                <a:xfrm rot="20568000">
                  <a:off x="6058080" y="3061800"/>
                  <a:ext cx="318960" cy="314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00"/>
                    </a:gs>
                    <a:gs pos="100000">
                      <a:srgbClr val="543522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9" name=""/>
                <p:cNvSpPr/>
                <p:nvPr/>
              </p:nvSpPr>
              <p:spPr>
                <a:xfrm rot="20568000">
                  <a:off x="6042240" y="3040560"/>
                  <a:ext cx="3427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9966"/>
                      </a:solidFill>
                      <a:latin typeface="Arial"/>
                    </a:rPr>
                    <a:t>Q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60" name=""/>
            <p:cNvSpPr/>
            <p:nvPr/>
          </p:nvSpPr>
          <p:spPr>
            <a:xfrm rot="19816800">
              <a:off x="6248520" y="2437920"/>
              <a:ext cx="2209680" cy="1981080"/>
            </a:xfrm>
            <a:prstGeom prst="hexagon">
              <a:avLst>
                <a:gd name="adj" fmla="val 27885"/>
                <a:gd name="vf" fmla="val 115470"/>
              </a:avLst>
            </a:prstGeom>
            <a:gradFill rotWithShape="0">
              <a:gsLst>
                <a:gs pos="0">
                  <a:srgbClr val="00ff00"/>
                </a:gs>
                <a:gs pos="100000">
                  <a:srgbClr val="008a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61" name=""/>
          <p:cNvGrpSpPr/>
          <p:nvPr/>
        </p:nvGrpSpPr>
        <p:grpSpPr>
          <a:xfrm>
            <a:off x="2487600" y="2178360"/>
            <a:ext cx="6654240" cy="3098520"/>
            <a:chOff x="2487600" y="2178360"/>
            <a:chExt cx="6654240" cy="3098520"/>
          </a:xfrm>
        </p:grpSpPr>
        <p:grpSp>
          <p:nvGrpSpPr>
            <p:cNvPr id="562" name=""/>
            <p:cNvGrpSpPr/>
            <p:nvPr/>
          </p:nvGrpSpPr>
          <p:grpSpPr>
            <a:xfrm>
              <a:off x="2487600" y="3182400"/>
              <a:ext cx="4251600" cy="2094480"/>
              <a:chOff x="2487600" y="3182400"/>
              <a:chExt cx="4251600" cy="2094480"/>
            </a:xfrm>
          </p:grpSpPr>
          <p:grpSp>
            <p:nvGrpSpPr>
              <p:cNvPr id="563" name=""/>
              <p:cNvGrpSpPr/>
              <p:nvPr/>
            </p:nvGrpSpPr>
            <p:grpSpPr>
              <a:xfrm>
                <a:off x="2570400" y="3182400"/>
                <a:ext cx="4101120" cy="2094480"/>
                <a:chOff x="2570400" y="3182400"/>
                <a:chExt cx="4101120" cy="2094480"/>
              </a:xfrm>
            </p:grpSpPr>
            <p:sp>
              <p:nvSpPr>
                <p:cNvPr id="564" name=""/>
                <p:cNvSpPr/>
                <p:nvPr/>
              </p:nvSpPr>
              <p:spPr>
                <a:xfrm rot="15897000">
                  <a:off x="4074480" y="3726720"/>
                  <a:ext cx="2984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5" name=""/>
                <p:cNvSpPr/>
                <p:nvPr/>
              </p:nvSpPr>
              <p:spPr>
                <a:xfrm rot="15897000">
                  <a:off x="4254840" y="362340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6" name=""/>
                <p:cNvSpPr/>
                <p:nvPr/>
              </p:nvSpPr>
              <p:spPr>
                <a:xfrm rot="15897000">
                  <a:off x="4373280" y="3648960"/>
                  <a:ext cx="29844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7" name=""/>
                <p:cNvSpPr/>
                <p:nvPr/>
              </p:nvSpPr>
              <p:spPr>
                <a:xfrm rot="15897000">
                  <a:off x="4557960" y="359640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8" name=""/>
                <p:cNvSpPr/>
                <p:nvPr/>
              </p:nvSpPr>
              <p:spPr>
                <a:xfrm rot="15897000">
                  <a:off x="4677120" y="3622680"/>
                  <a:ext cx="2984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9" name=""/>
                <p:cNvSpPr/>
                <p:nvPr/>
              </p:nvSpPr>
              <p:spPr>
                <a:xfrm rot="15897000">
                  <a:off x="4868640" y="3645360"/>
                  <a:ext cx="22860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70" name=""/>
                <p:cNvSpPr/>
                <p:nvPr/>
              </p:nvSpPr>
              <p:spPr>
                <a:xfrm rot="21297000">
                  <a:off x="2639520" y="3353400"/>
                  <a:ext cx="3962160" cy="1752480"/>
                </a:xfrm>
                <a:prstGeom prst="blockArc">
                  <a:avLst>
                    <a:gd name="adj1" fmla="val 14424157"/>
                    <a:gd name="adj2" fmla="val 17975843"/>
                    <a:gd name="adj3" fmla="val 15208"/>
                  </a:avLst>
                </a:prstGeom>
                <a:gradFill rotWithShape="0">
                  <a:gsLst>
                    <a:gs pos="0">
                      <a:srgbClr val="0099ff"/>
                    </a:gs>
                    <a:gs pos="100000">
                      <a:srgbClr val="3333cc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71" name=""/>
                <p:cNvGrpSpPr/>
                <p:nvPr/>
              </p:nvGrpSpPr>
              <p:grpSpPr>
                <a:xfrm>
                  <a:off x="2605680" y="3472200"/>
                  <a:ext cx="1299240" cy="1150200"/>
                  <a:chOff x="2605680" y="3472200"/>
                  <a:chExt cx="1299240" cy="1150200"/>
                </a:xfrm>
              </p:grpSpPr>
              <p:sp>
                <p:nvSpPr>
                  <p:cNvPr id="572" name=""/>
                  <p:cNvSpPr/>
                  <p:nvPr/>
                </p:nvSpPr>
                <p:spPr>
                  <a:xfrm rot="3391200">
                    <a:off x="3451680" y="404928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3" name=""/>
                  <p:cNvSpPr/>
                  <p:nvPr/>
                </p:nvSpPr>
                <p:spPr>
                  <a:xfrm rot="3391200">
                    <a:off x="3282840" y="4068360"/>
                    <a:ext cx="228600" cy="748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8080" bIns="280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4" name=""/>
                  <p:cNvSpPr/>
                  <p:nvPr/>
                </p:nvSpPr>
                <p:spPr>
                  <a:xfrm rot="3391200">
                    <a:off x="3156120" y="415368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5" name=""/>
                  <p:cNvSpPr/>
                  <p:nvPr/>
                </p:nvSpPr>
                <p:spPr>
                  <a:xfrm rot="3391200">
                    <a:off x="3070440" y="429984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6" name=""/>
                  <p:cNvSpPr/>
                  <p:nvPr/>
                </p:nvSpPr>
                <p:spPr>
                  <a:xfrm rot="3391200">
                    <a:off x="2900520" y="432036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7" name=""/>
                  <p:cNvSpPr/>
                  <p:nvPr/>
                </p:nvSpPr>
                <p:spPr>
                  <a:xfrm rot="3391200">
                    <a:off x="2815920" y="446904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8" name=""/>
                  <p:cNvSpPr/>
                  <p:nvPr/>
                </p:nvSpPr>
                <p:spPr>
                  <a:xfrm rot="8791200">
                    <a:off x="2576520" y="3821040"/>
                    <a:ext cx="1357200" cy="3031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79" name=""/>
                <p:cNvGrpSpPr/>
                <p:nvPr/>
              </p:nvGrpSpPr>
              <p:grpSpPr>
                <a:xfrm>
                  <a:off x="5239440" y="3356640"/>
                  <a:ext cx="1374120" cy="948600"/>
                  <a:chOff x="5239440" y="3356640"/>
                  <a:chExt cx="1374120" cy="948600"/>
                </a:xfrm>
              </p:grpSpPr>
              <p:sp>
                <p:nvSpPr>
                  <p:cNvPr id="580" name=""/>
                  <p:cNvSpPr/>
                  <p:nvPr/>
                </p:nvSpPr>
                <p:spPr>
                  <a:xfrm rot="17664600">
                    <a:off x="5557680" y="3825360"/>
                    <a:ext cx="228600" cy="748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8080" bIns="280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1" name=""/>
                  <p:cNvSpPr/>
                  <p:nvPr/>
                </p:nvSpPr>
                <p:spPr>
                  <a:xfrm rot="17664600">
                    <a:off x="5663880" y="395820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2" name=""/>
                  <p:cNvSpPr/>
                  <p:nvPr/>
                </p:nvSpPr>
                <p:spPr>
                  <a:xfrm rot="17664600">
                    <a:off x="5802480" y="402192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3" name=""/>
                  <p:cNvSpPr/>
                  <p:nvPr/>
                </p:nvSpPr>
                <p:spPr>
                  <a:xfrm rot="17664600">
                    <a:off x="5973120" y="401472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4" name=""/>
                  <p:cNvSpPr/>
                  <p:nvPr/>
                </p:nvSpPr>
                <p:spPr>
                  <a:xfrm rot="17664600">
                    <a:off x="6080400" y="414828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5" name=""/>
                  <p:cNvSpPr/>
                  <p:nvPr/>
                </p:nvSpPr>
                <p:spPr>
                  <a:xfrm rot="17664600">
                    <a:off x="6251040" y="4141080"/>
                    <a:ext cx="22860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6" name=""/>
                  <p:cNvSpPr/>
                  <p:nvPr/>
                </p:nvSpPr>
                <p:spPr>
                  <a:xfrm rot="1464600">
                    <a:off x="5240520" y="3626280"/>
                    <a:ext cx="1371600" cy="3031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87" name=""/>
              <p:cNvGrpSpPr/>
              <p:nvPr/>
            </p:nvGrpSpPr>
            <p:grpSpPr>
              <a:xfrm>
                <a:off x="6368040" y="3696120"/>
                <a:ext cx="371160" cy="366120"/>
                <a:chOff x="6368040" y="3696120"/>
                <a:chExt cx="371160" cy="366120"/>
              </a:xfrm>
            </p:grpSpPr>
            <p:sp>
              <p:nvSpPr>
                <p:cNvPr id="588" name=""/>
                <p:cNvSpPr/>
                <p:nvPr/>
              </p:nvSpPr>
              <p:spPr>
                <a:xfrm rot="21297000">
                  <a:off x="6395400" y="3732840"/>
                  <a:ext cx="318960" cy="314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00"/>
                    </a:gs>
                    <a:gs pos="100000">
                      <a:srgbClr val="543522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89" name=""/>
                <p:cNvSpPr/>
                <p:nvPr/>
              </p:nvSpPr>
              <p:spPr>
                <a:xfrm rot="21297000">
                  <a:off x="6382080" y="3710520"/>
                  <a:ext cx="3427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9966"/>
                      </a:solidFill>
                      <a:latin typeface="Arial"/>
                    </a:rPr>
                    <a:t>Q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0" name=""/>
              <p:cNvGrpSpPr/>
              <p:nvPr/>
            </p:nvGrpSpPr>
            <p:grpSpPr>
              <a:xfrm>
                <a:off x="2487600" y="3962520"/>
                <a:ext cx="373320" cy="366120"/>
                <a:chOff x="2487600" y="3962520"/>
                <a:chExt cx="373320" cy="366120"/>
              </a:xfrm>
            </p:grpSpPr>
            <p:sp>
              <p:nvSpPr>
                <p:cNvPr id="591" name=""/>
                <p:cNvSpPr/>
                <p:nvPr/>
              </p:nvSpPr>
              <p:spPr>
                <a:xfrm rot="21297000">
                  <a:off x="2500560" y="4000680"/>
                  <a:ext cx="318600" cy="314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9ff39"/>
                    </a:gs>
                    <a:gs pos="100000">
                      <a:srgbClr val="00cc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2" name=""/>
                <p:cNvSpPr/>
                <p:nvPr/>
              </p:nvSpPr>
              <p:spPr>
                <a:xfrm rot="21297000">
                  <a:off x="2503800" y="3976920"/>
                  <a:ext cx="3427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9966"/>
                      </a:solidFill>
                      <a:latin typeface="Arial"/>
                    </a:rPr>
                    <a:t>R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93" name=""/>
            <p:cNvSpPr/>
            <p:nvPr/>
          </p:nvSpPr>
          <p:spPr>
            <a:xfrm rot="18996600">
              <a:off x="6553080" y="2666520"/>
              <a:ext cx="2210040" cy="1981080"/>
            </a:xfrm>
            <a:prstGeom prst="hexagon">
              <a:avLst>
                <a:gd name="adj" fmla="val 27889"/>
                <a:gd name="vf" fmla="val 115470"/>
              </a:avLst>
            </a:prstGeom>
            <a:gradFill rotWithShape="0">
              <a:gsLst>
                <a:gs pos="0">
                  <a:srgbClr val="00ff00"/>
                </a:gs>
                <a:gs pos="100000">
                  <a:srgbClr val="008a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94" name=""/>
          <p:cNvGrpSpPr/>
          <p:nvPr/>
        </p:nvGrpSpPr>
        <p:grpSpPr>
          <a:xfrm>
            <a:off x="2438280" y="1858320"/>
            <a:ext cx="6418440" cy="3551400"/>
            <a:chOff x="2438280" y="1858320"/>
            <a:chExt cx="6418440" cy="3551400"/>
          </a:xfrm>
        </p:grpSpPr>
        <p:grpSp>
          <p:nvGrpSpPr>
            <p:cNvPr id="595" name=""/>
            <p:cNvGrpSpPr/>
            <p:nvPr/>
          </p:nvGrpSpPr>
          <p:grpSpPr>
            <a:xfrm>
              <a:off x="2438280" y="3657600"/>
              <a:ext cx="4381200" cy="1752120"/>
              <a:chOff x="2438280" y="3657600"/>
              <a:chExt cx="4381200" cy="1752120"/>
            </a:xfrm>
          </p:grpSpPr>
          <p:grpSp>
            <p:nvGrpSpPr>
              <p:cNvPr id="596" name=""/>
              <p:cNvGrpSpPr/>
              <p:nvPr/>
            </p:nvGrpSpPr>
            <p:grpSpPr>
              <a:xfrm>
                <a:off x="2559960" y="3657600"/>
                <a:ext cx="4161960" cy="1752120"/>
                <a:chOff x="2559960" y="3657600"/>
                <a:chExt cx="4161960" cy="1752120"/>
              </a:xfrm>
            </p:grpSpPr>
            <p:sp>
              <p:nvSpPr>
                <p:cNvPr id="597" name=""/>
                <p:cNvSpPr/>
                <p:nvPr/>
              </p:nvSpPr>
              <p:spPr>
                <a:xfrm rot="16200000">
                  <a:off x="4129560" y="4033800"/>
                  <a:ext cx="29808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8" name=""/>
                <p:cNvSpPr/>
                <p:nvPr/>
              </p:nvSpPr>
              <p:spPr>
                <a:xfrm rot="16200000">
                  <a:off x="4318560" y="391644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9" name=""/>
                <p:cNvSpPr/>
                <p:nvPr/>
              </p:nvSpPr>
              <p:spPr>
                <a:xfrm rot="16200000">
                  <a:off x="4434480" y="3956040"/>
                  <a:ext cx="29808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0" name=""/>
                <p:cNvSpPr/>
                <p:nvPr/>
              </p:nvSpPr>
              <p:spPr>
                <a:xfrm rot="16200000">
                  <a:off x="4623480" y="3916440"/>
                  <a:ext cx="22824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1" name=""/>
                <p:cNvSpPr/>
                <p:nvPr/>
              </p:nvSpPr>
              <p:spPr>
                <a:xfrm rot="16200000">
                  <a:off x="4739040" y="3956040"/>
                  <a:ext cx="29808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2" name=""/>
                <p:cNvSpPr/>
                <p:nvPr/>
              </p:nvSpPr>
              <p:spPr>
                <a:xfrm rot="16200000">
                  <a:off x="4928040" y="399276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3" name=""/>
                <p:cNvSpPr/>
                <p:nvPr/>
              </p:nvSpPr>
              <p:spPr>
                <a:xfrm>
                  <a:off x="2652480" y="3657600"/>
                  <a:ext cx="3962160" cy="1752120"/>
                </a:xfrm>
                <a:prstGeom prst="blockArc">
                  <a:avLst>
                    <a:gd name="adj1" fmla="val 14424157"/>
                    <a:gd name="adj2" fmla="val 17975843"/>
                    <a:gd name="adj3" fmla="val 15208"/>
                  </a:avLst>
                </a:prstGeom>
                <a:gradFill rotWithShape="0">
                  <a:gsLst>
                    <a:gs pos="0">
                      <a:srgbClr val="0099ff"/>
                    </a:gs>
                    <a:gs pos="100000">
                      <a:srgbClr val="3333cc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04" name=""/>
                <p:cNvGrpSpPr/>
                <p:nvPr/>
              </p:nvGrpSpPr>
              <p:grpSpPr>
                <a:xfrm>
                  <a:off x="2559960" y="3718080"/>
                  <a:ext cx="1389960" cy="767520"/>
                  <a:chOff x="2559960" y="3718080"/>
                  <a:chExt cx="1389960" cy="767520"/>
                </a:xfrm>
              </p:grpSpPr>
              <p:sp>
                <p:nvSpPr>
                  <p:cNvPr id="605" name=""/>
                  <p:cNvSpPr/>
                  <p:nvPr/>
                </p:nvSpPr>
                <p:spPr>
                  <a:xfrm rot="4734000">
                    <a:off x="3384720" y="418284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6" name=""/>
                  <p:cNvSpPr/>
                  <p:nvPr/>
                </p:nvSpPr>
                <p:spPr>
                  <a:xfrm rot="4734000">
                    <a:off x="3221280" y="4136760"/>
                    <a:ext cx="228240" cy="748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8080" bIns="280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7" name=""/>
                  <p:cNvSpPr/>
                  <p:nvPr/>
                </p:nvSpPr>
                <p:spPr>
                  <a:xfrm rot="4734000">
                    <a:off x="3071880" y="416700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8" name=""/>
                  <p:cNvSpPr/>
                  <p:nvPr/>
                </p:nvSpPr>
                <p:spPr>
                  <a:xfrm rot="4734000">
                    <a:off x="2936880" y="426996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9" name=""/>
                  <p:cNvSpPr/>
                  <p:nvPr/>
                </p:nvSpPr>
                <p:spPr>
                  <a:xfrm rot="4734000">
                    <a:off x="2772000" y="422424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0" name=""/>
                  <p:cNvSpPr/>
                  <p:nvPr/>
                </p:nvSpPr>
                <p:spPr>
                  <a:xfrm rot="4734000">
                    <a:off x="2637000" y="432900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1" name=""/>
                  <p:cNvSpPr/>
                  <p:nvPr/>
                </p:nvSpPr>
                <p:spPr>
                  <a:xfrm rot="10134000">
                    <a:off x="2576160" y="3845520"/>
                    <a:ext cx="1357200" cy="3027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12" name=""/>
                <p:cNvGrpSpPr/>
                <p:nvPr/>
              </p:nvGrpSpPr>
              <p:grpSpPr>
                <a:xfrm>
                  <a:off x="5317200" y="3708720"/>
                  <a:ext cx="1404720" cy="754920"/>
                  <a:chOff x="5317200" y="3708720"/>
                  <a:chExt cx="1404720" cy="754920"/>
                </a:xfrm>
              </p:grpSpPr>
              <p:sp>
                <p:nvSpPr>
                  <p:cNvPr id="613" name=""/>
                  <p:cNvSpPr/>
                  <p:nvPr/>
                </p:nvSpPr>
                <p:spPr>
                  <a:xfrm rot="16936200">
                    <a:off x="5673960" y="4101840"/>
                    <a:ext cx="228240" cy="748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8080" bIns="280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4" name=""/>
                  <p:cNvSpPr/>
                  <p:nvPr/>
                </p:nvSpPr>
                <p:spPr>
                  <a:xfrm rot="16936200">
                    <a:off x="5806080" y="420840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5" name=""/>
                  <p:cNvSpPr/>
                  <p:nvPr/>
                </p:nvSpPr>
                <p:spPr>
                  <a:xfrm rot="16936200">
                    <a:off x="5955120" y="424152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6" name=""/>
                  <p:cNvSpPr/>
                  <p:nvPr/>
                </p:nvSpPr>
                <p:spPr>
                  <a:xfrm rot="16936200">
                    <a:off x="6120360" y="419868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7" name=""/>
                  <p:cNvSpPr/>
                  <p:nvPr/>
                </p:nvSpPr>
                <p:spPr>
                  <a:xfrm rot="16936200">
                    <a:off x="6253560" y="430668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8" name=""/>
                  <p:cNvSpPr/>
                  <p:nvPr/>
                </p:nvSpPr>
                <p:spPr>
                  <a:xfrm rot="16936200">
                    <a:off x="6418800" y="426384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9" name=""/>
                  <p:cNvSpPr/>
                  <p:nvPr/>
                </p:nvSpPr>
                <p:spPr>
                  <a:xfrm rot="736200">
                    <a:off x="5333760" y="3850920"/>
                    <a:ext cx="1371600" cy="3027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620" name=""/>
              <p:cNvGrpSpPr/>
              <p:nvPr/>
            </p:nvGrpSpPr>
            <p:grpSpPr>
              <a:xfrm>
                <a:off x="2438280" y="3747960"/>
                <a:ext cx="347760" cy="337320"/>
                <a:chOff x="2438280" y="3747960"/>
                <a:chExt cx="347760" cy="337320"/>
              </a:xfrm>
            </p:grpSpPr>
            <p:sp>
              <p:nvSpPr>
                <p:cNvPr id="621" name=""/>
                <p:cNvSpPr/>
                <p:nvPr/>
              </p:nvSpPr>
              <p:spPr>
                <a:xfrm>
                  <a:off x="2438280" y="3769920"/>
                  <a:ext cx="318960" cy="313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9ff39"/>
                    </a:gs>
                    <a:gs pos="100000">
                      <a:srgbClr val="00cc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2" name=""/>
                <p:cNvSpPr/>
                <p:nvPr/>
              </p:nvSpPr>
              <p:spPr>
                <a:xfrm>
                  <a:off x="2442960" y="3747960"/>
                  <a:ext cx="3430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9966"/>
                      </a:solidFill>
                      <a:latin typeface="Arial"/>
                    </a:rPr>
                    <a:t>R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3" name=""/>
              <p:cNvGrpSpPr/>
              <p:nvPr/>
            </p:nvGrpSpPr>
            <p:grpSpPr>
              <a:xfrm>
                <a:off x="6476760" y="3747960"/>
                <a:ext cx="342720" cy="337320"/>
                <a:chOff x="6476760" y="3747960"/>
                <a:chExt cx="342720" cy="337320"/>
              </a:xfrm>
            </p:grpSpPr>
            <p:sp>
              <p:nvSpPr>
                <p:cNvPr id="624" name=""/>
                <p:cNvSpPr/>
                <p:nvPr/>
              </p:nvSpPr>
              <p:spPr>
                <a:xfrm>
                  <a:off x="6489360" y="3769920"/>
                  <a:ext cx="318960" cy="313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00"/>
                    </a:gs>
                    <a:gs pos="100000">
                      <a:srgbClr val="543522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5" name=""/>
                <p:cNvSpPr/>
                <p:nvPr/>
              </p:nvSpPr>
              <p:spPr>
                <a:xfrm>
                  <a:off x="6476760" y="3747960"/>
                  <a:ext cx="3427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9966"/>
                      </a:solidFill>
                      <a:latin typeface="Arial"/>
                    </a:rPr>
                    <a:t>Q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26" name=""/>
            <p:cNvSpPr/>
            <p:nvPr/>
          </p:nvSpPr>
          <p:spPr>
            <a:xfrm rot="17422200">
              <a:off x="6438600" y="2248200"/>
              <a:ext cx="2209680" cy="1981080"/>
            </a:xfrm>
            <a:prstGeom prst="hexagon">
              <a:avLst>
                <a:gd name="adj" fmla="val 27885"/>
                <a:gd name="vf" fmla="val 115470"/>
              </a:avLst>
            </a:prstGeom>
            <a:gradFill rotWithShape="0">
              <a:gsLst>
                <a:gs pos="0">
                  <a:srgbClr val="00ff00"/>
                </a:gs>
                <a:gs pos="100000">
                  <a:srgbClr val="008a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27" name=""/>
          <p:cNvGrpSpPr/>
          <p:nvPr/>
        </p:nvGrpSpPr>
        <p:grpSpPr>
          <a:xfrm>
            <a:off x="2133720" y="1747440"/>
            <a:ext cx="6589800" cy="3122640"/>
            <a:chOff x="2133720" y="1747440"/>
            <a:chExt cx="6589800" cy="3122640"/>
          </a:xfrm>
        </p:grpSpPr>
        <p:grpSp>
          <p:nvGrpSpPr>
            <p:cNvPr id="628" name=""/>
            <p:cNvGrpSpPr/>
            <p:nvPr/>
          </p:nvGrpSpPr>
          <p:grpSpPr>
            <a:xfrm>
              <a:off x="2133720" y="2895480"/>
              <a:ext cx="4585680" cy="1974600"/>
              <a:chOff x="2133720" y="2895480"/>
              <a:chExt cx="4585680" cy="1974600"/>
            </a:xfrm>
          </p:grpSpPr>
          <p:grpSp>
            <p:nvGrpSpPr>
              <p:cNvPr id="629" name=""/>
              <p:cNvGrpSpPr/>
              <p:nvPr/>
            </p:nvGrpSpPr>
            <p:grpSpPr>
              <a:xfrm>
                <a:off x="2534400" y="2895480"/>
                <a:ext cx="4164120" cy="1974600"/>
                <a:chOff x="2534400" y="2895480"/>
                <a:chExt cx="4164120" cy="1974600"/>
              </a:xfrm>
            </p:grpSpPr>
            <p:sp>
              <p:nvSpPr>
                <p:cNvPr id="630" name=""/>
                <p:cNvSpPr/>
                <p:nvPr/>
              </p:nvSpPr>
              <p:spPr>
                <a:xfrm rot="16200000">
                  <a:off x="4140720" y="4683600"/>
                  <a:ext cx="29808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1" name=""/>
                <p:cNvSpPr/>
                <p:nvPr/>
              </p:nvSpPr>
              <p:spPr>
                <a:xfrm rot="16200000">
                  <a:off x="4329720" y="462960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2" name=""/>
                <p:cNvSpPr/>
                <p:nvPr/>
              </p:nvSpPr>
              <p:spPr>
                <a:xfrm rot="16200000">
                  <a:off x="4445640" y="4669200"/>
                  <a:ext cx="298080" cy="74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3" name=""/>
                <p:cNvSpPr/>
                <p:nvPr/>
              </p:nvSpPr>
              <p:spPr>
                <a:xfrm rot="16200000">
                  <a:off x="4634280" y="462960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4" name=""/>
                <p:cNvSpPr/>
                <p:nvPr/>
              </p:nvSpPr>
              <p:spPr>
                <a:xfrm rot="16200000">
                  <a:off x="4750200" y="4669200"/>
                  <a:ext cx="29808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50000">
                      <a:srgbClr val="0099ff"/>
                    </a:gs>
                    <a:gs pos="100000">
                      <a:srgbClr val="3333cc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5" name=""/>
                <p:cNvSpPr/>
                <p:nvPr/>
              </p:nvSpPr>
              <p:spPr>
                <a:xfrm rot="16200000">
                  <a:off x="4939200" y="4705560"/>
                  <a:ext cx="228240" cy="74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80"/>
                    </a:gs>
                    <a:gs pos="50000">
                      <a:srgbClr val="33cccc"/>
                    </a:gs>
                    <a:gs pos="100000">
                      <a:srgbClr val="0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6" name=""/>
                <p:cNvSpPr/>
                <p:nvPr/>
              </p:nvSpPr>
              <p:spPr>
                <a:xfrm flipV="1">
                  <a:off x="2619000" y="2894760"/>
                  <a:ext cx="3962520" cy="1752120"/>
                </a:xfrm>
                <a:prstGeom prst="blockArc">
                  <a:avLst>
                    <a:gd name="adj1" fmla="val 14424157"/>
                    <a:gd name="adj2" fmla="val 17975843"/>
                    <a:gd name="adj3" fmla="val 15208"/>
                  </a:avLst>
                </a:prstGeom>
                <a:gradFill rotWithShape="0">
                  <a:gsLst>
                    <a:gs pos="0">
                      <a:srgbClr val="0099ff"/>
                    </a:gs>
                    <a:gs pos="100000">
                      <a:srgbClr val="3333cc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37" name=""/>
                <p:cNvGrpSpPr/>
                <p:nvPr/>
              </p:nvGrpSpPr>
              <p:grpSpPr>
                <a:xfrm>
                  <a:off x="2534400" y="4006440"/>
                  <a:ext cx="1390680" cy="710640"/>
                  <a:chOff x="2534400" y="4006440"/>
                  <a:chExt cx="1390680" cy="710640"/>
                </a:xfrm>
              </p:grpSpPr>
              <p:sp>
                <p:nvSpPr>
                  <p:cNvPr id="638" name=""/>
                  <p:cNvSpPr/>
                  <p:nvPr/>
                </p:nvSpPr>
                <p:spPr>
                  <a:xfrm rot="6124800">
                    <a:off x="3252240" y="456012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9" name=""/>
                  <p:cNvSpPr/>
                  <p:nvPr/>
                </p:nvSpPr>
                <p:spPr>
                  <a:xfrm rot="6124800">
                    <a:off x="3120120" y="4453560"/>
                    <a:ext cx="228240" cy="748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8080" bIns="280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0" name=""/>
                  <p:cNvSpPr/>
                  <p:nvPr/>
                </p:nvSpPr>
                <p:spPr>
                  <a:xfrm rot="6124800">
                    <a:off x="2971080" y="442224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1" name=""/>
                  <p:cNvSpPr/>
                  <p:nvPr/>
                </p:nvSpPr>
                <p:spPr>
                  <a:xfrm rot="6124800">
                    <a:off x="2806200" y="446400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2" name=""/>
                  <p:cNvSpPr/>
                  <p:nvPr/>
                </p:nvSpPr>
                <p:spPr>
                  <a:xfrm rot="6124800">
                    <a:off x="2672640" y="435708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3" name=""/>
                  <p:cNvSpPr/>
                  <p:nvPr/>
                </p:nvSpPr>
                <p:spPr>
                  <a:xfrm rot="6124800">
                    <a:off x="2507400" y="440028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4" name=""/>
                  <p:cNvSpPr/>
                  <p:nvPr/>
                </p:nvSpPr>
                <p:spPr>
                  <a:xfrm rot="11525400">
                    <a:off x="2550960" y="4144680"/>
                    <a:ext cx="1357200" cy="3027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45" name=""/>
                <p:cNvGrpSpPr/>
                <p:nvPr/>
              </p:nvGrpSpPr>
              <p:grpSpPr>
                <a:xfrm>
                  <a:off x="5297760" y="3901680"/>
                  <a:ext cx="1400760" cy="723240"/>
                  <a:chOff x="5297760" y="3901680"/>
                  <a:chExt cx="1400760" cy="723240"/>
                </a:xfrm>
              </p:grpSpPr>
              <p:sp>
                <p:nvSpPr>
                  <p:cNvPr id="646" name=""/>
                  <p:cNvSpPr/>
                  <p:nvPr/>
                </p:nvSpPr>
                <p:spPr>
                  <a:xfrm rot="15196800">
                    <a:off x="5747760" y="4438080"/>
                    <a:ext cx="228240" cy="748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8080" bIns="280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7" name=""/>
                  <p:cNvSpPr/>
                  <p:nvPr/>
                </p:nvSpPr>
                <p:spPr>
                  <a:xfrm rot="15196800">
                    <a:off x="5914800" y="446760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8" name=""/>
                  <p:cNvSpPr/>
                  <p:nvPr/>
                </p:nvSpPr>
                <p:spPr>
                  <a:xfrm rot="15196800">
                    <a:off x="6061320" y="442440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9" name=""/>
                  <p:cNvSpPr/>
                  <p:nvPr/>
                </p:nvSpPr>
                <p:spPr>
                  <a:xfrm rot="15196800">
                    <a:off x="6184800" y="430704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0" name=""/>
                  <p:cNvSpPr/>
                  <p:nvPr/>
                </p:nvSpPr>
                <p:spPr>
                  <a:xfrm rot="15196800">
                    <a:off x="6353640" y="433692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1" name=""/>
                  <p:cNvSpPr/>
                  <p:nvPr/>
                </p:nvSpPr>
                <p:spPr>
                  <a:xfrm rot="15196800">
                    <a:off x="6477480" y="4219200"/>
                    <a:ext cx="228240" cy="745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8080"/>
                      </a:gs>
                      <a:gs pos="50000">
                        <a:srgbClr val="33cccc"/>
                      </a:gs>
                      <a:gs pos="100000">
                        <a:srgbClr val="00808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2" name=""/>
                  <p:cNvSpPr/>
                  <p:nvPr/>
                </p:nvSpPr>
                <p:spPr>
                  <a:xfrm rot="20596800">
                    <a:off x="5312160" y="4092480"/>
                    <a:ext cx="1371600" cy="3027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cc"/>
                      </a:gs>
                      <a:gs pos="50000">
                        <a:srgbClr val="0099ff"/>
                      </a:gs>
                      <a:gs pos="100000">
                        <a:srgbClr val="3333cc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653" name=""/>
              <p:cNvGrpSpPr/>
              <p:nvPr/>
            </p:nvGrpSpPr>
            <p:grpSpPr>
              <a:xfrm>
                <a:off x="6376680" y="3701880"/>
                <a:ext cx="342720" cy="337320"/>
                <a:chOff x="6376680" y="3701880"/>
                <a:chExt cx="342720" cy="337320"/>
              </a:xfrm>
            </p:grpSpPr>
            <p:sp>
              <p:nvSpPr>
                <p:cNvPr id="654" name=""/>
                <p:cNvSpPr/>
                <p:nvPr/>
              </p:nvSpPr>
              <p:spPr>
                <a:xfrm>
                  <a:off x="6389280" y="3723840"/>
                  <a:ext cx="318960" cy="313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0000"/>
                    </a:gs>
                    <a:gs pos="100000">
                      <a:srgbClr val="543522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55" name=""/>
                <p:cNvSpPr/>
                <p:nvPr/>
              </p:nvSpPr>
              <p:spPr>
                <a:xfrm>
                  <a:off x="6376680" y="3701880"/>
                  <a:ext cx="3427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9966"/>
                      </a:solidFill>
                      <a:latin typeface="Arial"/>
                    </a:rPr>
                    <a:t>Q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6" name=""/>
              <p:cNvGrpSpPr/>
              <p:nvPr/>
            </p:nvGrpSpPr>
            <p:grpSpPr>
              <a:xfrm>
                <a:off x="2133720" y="3504960"/>
                <a:ext cx="966600" cy="972720"/>
                <a:chOff x="2133720" y="3504960"/>
                <a:chExt cx="966600" cy="972720"/>
              </a:xfrm>
            </p:grpSpPr>
            <p:sp>
              <p:nvSpPr>
                <p:cNvPr id="657" name=""/>
                <p:cNvSpPr/>
                <p:nvPr/>
              </p:nvSpPr>
              <p:spPr>
                <a:xfrm>
                  <a:off x="2133720" y="3504960"/>
                  <a:ext cx="966600" cy="972720"/>
                </a:xfrm>
                <a:prstGeom prst="sun">
                  <a:avLst>
                    <a:gd name="adj" fmla="val 33333"/>
                  </a:avLst>
                </a:prstGeom>
                <a:gradFill rotWithShape="0">
                  <a:gsLst>
                    <a:gs pos="0">
                      <a:srgbClr val="39ff39"/>
                    </a:gs>
                    <a:gs pos="100000">
                      <a:srgbClr val="00cc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58" name=""/>
                <p:cNvSpPr/>
                <p:nvPr/>
              </p:nvSpPr>
              <p:spPr>
                <a:xfrm>
                  <a:off x="2465280" y="3814200"/>
                  <a:ext cx="342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9966"/>
                      </a:solidFill>
                      <a:latin typeface="Arial"/>
                    </a:rPr>
                    <a:t>R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59" name=""/>
            <p:cNvSpPr/>
            <p:nvPr/>
          </p:nvSpPr>
          <p:spPr>
            <a:xfrm rot="20439600">
              <a:off x="6248160" y="2057400"/>
              <a:ext cx="2209680" cy="1981440"/>
            </a:xfrm>
            <a:prstGeom prst="hexagon">
              <a:avLst>
                <a:gd name="adj" fmla="val 27880"/>
                <a:gd name="vf" fmla="val 115470"/>
              </a:avLst>
            </a:prstGeom>
            <a:gradFill rotWithShape="0">
              <a:gsLst>
                <a:gs pos="0">
                  <a:srgbClr val="00ff00"/>
                </a:gs>
                <a:gs pos="100000">
                  <a:srgbClr val="008a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660" name="DNA" descr=""/>
          <p:cNvPicPr/>
          <p:nvPr/>
        </p:nvPicPr>
        <p:blipFill>
          <a:blip r:embed="rId2"/>
          <a:stretch/>
        </p:blipFill>
        <p:spPr>
          <a:xfrm>
            <a:off x="0" y="228600"/>
            <a:ext cx="990720" cy="1371600"/>
          </a:xfrm>
          <a:prstGeom prst="rect">
            <a:avLst/>
          </a:prstGeom>
          <a:ln w="0">
            <a:noFill/>
          </a:ln>
        </p:spPr>
      </p:pic>
      <p:sp>
        <p:nvSpPr>
          <p:cNvPr id="661" name=""/>
          <p:cNvSpPr/>
          <p:nvPr/>
        </p:nvSpPr>
        <p:spPr>
          <a:xfrm>
            <a:off x="914400" y="5715000"/>
            <a:ext cx="7772400" cy="82548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Bt dyes excellent quenchers, silver nanoparticles contribute additionally to the quenching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2" name="DNA" descr=""/>
          <p:cNvPicPr/>
          <p:nvPr/>
        </p:nvPicPr>
        <p:blipFill>
          <a:blip r:embed="rId2"/>
          <a:stretch/>
        </p:blipFill>
        <p:spPr>
          <a:xfrm>
            <a:off x="0" y="228600"/>
            <a:ext cx="990720" cy="1371600"/>
          </a:xfrm>
          <a:prstGeom prst="rect">
            <a:avLst/>
          </a:prstGeom>
          <a:ln w="0">
            <a:noFill/>
          </a:ln>
        </p:spPr>
      </p:pic>
      <p:sp>
        <p:nvSpPr>
          <p:cNvPr id="663" name=""/>
          <p:cNvSpPr/>
          <p:nvPr/>
        </p:nvSpPr>
        <p:spPr>
          <a:xfrm>
            <a:off x="2362320" y="304920"/>
            <a:ext cx="50292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ERRS beac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64" name=""/>
          <p:cNvGraphicFramePr/>
          <p:nvPr/>
        </p:nvGraphicFramePr>
        <p:xfrm>
          <a:off x="838080" y="1066680"/>
          <a:ext cx="5562720" cy="26672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6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8080" y="1066680"/>
                    <a:ext cx="5562720" cy="266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6" name=""/>
          <p:cNvGraphicFramePr/>
          <p:nvPr/>
        </p:nvGraphicFramePr>
        <p:xfrm>
          <a:off x="685800" y="3886200"/>
          <a:ext cx="5638680" cy="297180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66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85800" y="3886200"/>
                    <a:ext cx="56386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8" name=""/>
          <p:cNvGraphicFramePr/>
          <p:nvPr/>
        </p:nvGraphicFramePr>
        <p:xfrm>
          <a:off x="7162920" y="1143000"/>
          <a:ext cx="1447560" cy="1981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6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162920" y="1143000"/>
                    <a:ext cx="1447560" cy="19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0" name=""/>
          <p:cNvGraphicFramePr/>
          <p:nvPr/>
        </p:nvGraphicFramePr>
        <p:xfrm>
          <a:off x="7315200" y="4191120"/>
          <a:ext cx="1219320" cy="22860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7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315200" y="4191120"/>
                    <a:ext cx="121932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2" name=""/>
          <p:cNvSpPr/>
          <p:nvPr/>
        </p:nvSpPr>
        <p:spPr>
          <a:xfrm>
            <a:off x="2743200" y="83808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Closed beacon on the Ag surf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8153280" y="3276720"/>
            <a:ext cx="0" cy="6858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6477120" y="34290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arget D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6095880" y="1371600"/>
            <a:ext cx="914400" cy="4572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 flipH="1" flipV="1">
            <a:off x="6400440" y="5334120"/>
            <a:ext cx="762120" cy="3045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7" name="DNA" descr=""/>
          <p:cNvPicPr/>
          <p:nvPr/>
        </p:nvPicPr>
        <p:blipFill>
          <a:blip r:embed="rId2"/>
          <a:stretch/>
        </p:blipFill>
        <p:spPr>
          <a:xfrm>
            <a:off x="0" y="228600"/>
            <a:ext cx="880920" cy="1219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78" name=""/>
          <p:cNvGraphicFramePr/>
          <p:nvPr/>
        </p:nvGraphicFramePr>
        <p:xfrm>
          <a:off x="762120" y="990720"/>
          <a:ext cx="7677000" cy="47908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67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990720"/>
                    <a:ext cx="7677000" cy="479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0" name=""/>
          <p:cNvSpPr/>
          <p:nvPr/>
        </p:nvSpPr>
        <p:spPr>
          <a:xfrm>
            <a:off x="2209680" y="15238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cc"/>
                </a:solidFill>
                <a:latin typeface="Times New Roman"/>
              </a:rPr>
              <a:t>contro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724280" y="1523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ngle base mismatc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7620120" y="1752480"/>
            <a:ext cx="4572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3352680" y="1752480"/>
            <a:ext cx="533520" cy="0"/>
          </a:xfrm>
          <a:prstGeom prst="line">
            <a:avLst/>
          </a:prstGeom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990720" y="304920"/>
            <a:ext cx="815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SERRS beacon in the presence of control and single base mismatched olig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533520" y="5715000"/>
            <a:ext cx="8381880" cy="825480"/>
          </a:xfrm>
          <a:prstGeom prst="rect">
            <a:avLst/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Excellent specificity for target DNA, range of SERRS dyes available for labelling, many possible quencher-flurophore pair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"/>
          <p:cNvSpPr/>
          <p:nvPr/>
        </p:nvSpPr>
        <p:spPr>
          <a:xfrm>
            <a:off x="990720" y="685800"/>
            <a:ext cx="2514600" cy="58140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onclusion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685800" y="1371600"/>
            <a:ext cx="815328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Novel SERRS active substrates characteris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Oligo successfully labelled with SERRS active dye and detected at 10</a:t>
            </a:r>
            <a:r>
              <a:rPr b="0" lang="en-GB" sz="2400" spc="-1" strike="noStrike" baseline="30000">
                <a:solidFill>
                  <a:srgbClr val="ffff00"/>
                </a:solidFill>
                <a:latin typeface="Times New Roman"/>
              </a:rPr>
              <a:t>-17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mo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SERRS spectra of dye maleimide differs from spectra of oligo cycloadduct enabling the analysis of the oligo </a:t>
            </a:r>
            <a:r>
              <a:rPr b="0" i="1" lang="en-GB" sz="2400" spc="-1" strike="noStrike">
                <a:solidFill>
                  <a:srgbClr val="ffff00"/>
                </a:solidFill>
                <a:latin typeface="Times New Roman"/>
              </a:rPr>
              <a:t>in situ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and in the presence of the starting material without separatio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AND THE MOST IMPORTANT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88" name="DNA" descr=""/>
          <p:cNvPicPr/>
          <p:nvPr/>
        </p:nvPicPr>
        <p:blipFill>
          <a:blip r:embed="rId6"/>
          <a:stretch/>
        </p:blipFill>
        <p:spPr>
          <a:xfrm>
            <a:off x="0" y="228600"/>
            <a:ext cx="838080" cy="1371600"/>
          </a:xfrm>
          <a:prstGeom prst="rect">
            <a:avLst/>
          </a:prstGeom>
          <a:ln w="0">
            <a:noFill/>
          </a:ln>
        </p:spPr>
      </p:pic>
      <p:sp>
        <p:nvSpPr>
          <p:cNvPr id="689" name=""/>
          <p:cNvSpPr/>
          <p:nvPr/>
        </p:nvSpPr>
        <p:spPr>
          <a:xfrm>
            <a:off x="609480" y="5257800"/>
            <a:ext cx="8153640" cy="838080"/>
          </a:xfrm>
          <a:prstGeom prst="rect">
            <a:avLst/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609480" y="5257800"/>
            <a:ext cx="824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ERRS molecular beacons designed  enabling the new advances in biotechnolog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924680" y="220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762120"/>
            <a:ext cx="59436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ost human genome er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identification of genetic disea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733920" y="1828800"/>
            <a:ext cx="228600" cy="609480"/>
          </a:xfrm>
          <a:prstGeom prst="downArrow">
            <a:avLst>
              <a:gd name="adj1" fmla="val 50000"/>
              <a:gd name="adj2" fmla="val 66654"/>
            </a:avLst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09480" y="243828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creening of large number of DNA sequences – DNA arrays (fluorescence used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9880" y="3200400"/>
            <a:ext cx="228600" cy="762120"/>
          </a:xfrm>
          <a:prstGeom prst="downArrow">
            <a:avLst>
              <a:gd name="adj1" fmla="val 50000"/>
              <a:gd name="adj2" fmla="val 83346"/>
            </a:avLst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124080" y="403848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roble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685800" y="4495680"/>
            <a:ext cx="3047760" cy="1610280"/>
            <a:chOff x="685800" y="4495680"/>
            <a:chExt cx="3047760" cy="1610280"/>
          </a:xfrm>
        </p:grpSpPr>
        <p:sp>
          <p:nvSpPr>
            <p:cNvPr id="58" name=""/>
            <p:cNvSpPr/>
            <p:nvPr/>
          </p:nvSpPr>
          <p:spPr>
            <a:xfrm>
              <a:off x="3327480" y="4495680"/>
              <a:ext cx="406080" cy="457200"/>
            </a:xfrm>
            <a:custGeom>
              <a:avLst/>
              <a:gdLst>
                <a:gd name="textAreaLeft" fmla="*/ 54360 w 406080"/>
                <a:gd name="textAreaRight" fmla="*/ 351720 w 406080"/>
                <a:gd name="textAreaTop" fmla="*/ 79920 h 457200"/>
                <a:gd name="textAreaBottom" fmla="*/ 33156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85800" y="4724280"/>
              <a:ext cx="2844720" cy="138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Complex chemistry,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reduced biological activity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4267080" y="4495680"/>
            <a:ext cx="4190760" cy="1496160"/>
            <a:chOff x="4267080" y="4495680"/>
            <a:chExt cx="4190760" cy="1496160"/>
          </a:xfrm>
        </p:grpSpPr>
        <p:sp>
          <p:nvSpPr>
            <p:cNvPr id="61" name=""/>
            <p:cNvSpPr/>
            <p:nvPr/>
          </p:nvSpPr>
          <p:spPr>
            <a:xfrm>
              <a:off x="4267080" y="4495680"/>
              <a:ext cx="304560" cy="457200"/>
            </a:xfrm>
            <a:custGeom>
              <a:avLst/>
              <a:gdLst>
                <a:gd name="textAreaLeft" fmla="*/ 40680 w 304560"/>
                <a:gd name="textAreaRight" fmla="*/ 263880 w 304560"/>
                <a:gd name="textAreaTop" fmla="*/ 79920 h 457200"/>
                <a:gd name="textAreaBottom" fmla="*/ 33156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647960" y="4800600"/>
              <a:ext cx="38098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00"/>
                  </a:solidFill>
                  <a:latin typeface="Times New Roman"/>
                </a:rPr>
                <a:t>Separation of a label and labelled oligo prior to detec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63" name="DNA" descr=""/>
          <p:cNvPicPr/>
          <p:nvPr/>
        </p:nvPicPr>
        <p:blipFill>
          <a:blip r:embed="rId4"/>
          <a:stretch/>
        </p:blipFill>
        <p:spPr>
          <a:xfrm>
            <a:off x="0" y="152280"/>
            <a:ext cx="106668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"/>
          <p:cNvSpPr/>
          <p:nvPr/>
        </p:nvSpPr>
        <p:spPr>
          <a:xfrm>
            <a:off x="254160" y="1228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2" name="hr" descr=""/>
          <p:cNvPicPr/>
          <p:nvPr/>
        </p:nvPicPr>
        <p:blipFill>
          <a:blip r:embed="rId2"/>
          <a:stretch/>
        </p:blipFill>
        <p:spPr>
          <a:xfrm>
            <a:off x="914400" y="685800"/>
            <a:ext cx="3962520" cy="2286000"/>
          </a:xfrm>
          <a:prstGeom prst="rect">
            <a:avLst/>
          </a:prstGeom>
          <a:ln w="0">
            <a:noFill/>
          </a:ln>
        </p:spPr>
      </p:pic>
      <p:sp>
        <p:nvSpPr>
          <p:cNvPr id="693" name=""/>
          <p:cNvSpPr/>
          <p:nvPr/>
        </p:nvSpPr>
        <p:spPr>
          <a:xfrm flipV="1">
            <a:off x="2590920" y="456840"/>
            <a:ext cx="1295280" cy="60948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886200" y="1522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Ljilja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5181480" y="228600"/>
            <a:ext cx="3657600" cy="67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10 things to know about  Croat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25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1230 islan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25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7 National Park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25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15  Top Models at the mom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25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Successful in sport (football, handball, skiing, waterpolo champion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25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Two Nobel Prize Winners in Chemist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25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One Wimbeldon Winn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25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The Home country of  the Ti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25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Home of Goran Visnji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25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Leading centre for animated movi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25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Home of excellent cuisin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25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6907320" y="2857680"/>
            <a:ext cx="35719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7" name="grb-small" descr=""/>
          <p:cNvPicPr/>
          <p:nvPr/>
        </p:nvPicPr>
        <p:blipFill>
          <a:blip r:embed="rId3"/>
          <a:stretch/>
        </p:blipFill>
        <p:spPr>
          <a:xfrm>
            <a:off x="0" y="0"/>
            <a:ext cx="90324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98" name=""/>
          <p:cNvGraphicFramePr/>
          <p:nvPr/>
        </p:nvGraphicFramePr>
        <p:xfrm>
          <a:off x="304920" y="3124080"/>
          <a:ext cx="2133360" cy="1600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9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3124080"/>
                    <a:ext cx="213336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00" name="lighthouse" descr=""/>
          <p:cNvPicPr/>
          <p:nvPr/>
        </p:nvPicPr>
        <p:blipFill>
          <a:blip r:embed="rId6"/>
          <a:stretch/>
        </p:blipFill>
        <p:spPr>
          <a:xfrm>
            <a:off x="228600" y="4876920"/>
            <a:ext cx="2343240" cy="1703160"/>
          </a:xfrm>
          <a:prstGeom prst="rect">
            <a:avLst/>
          </a:prstGeom>
          <a:ln w="0">
            <a:noFill/>
          </a:ln>
        </p:spPr>
      </p:pic>
      <p:pic>
        <p:nvPicPr>
          <p:cNvPr id="701" name="fallsfromabove" descr=""/>
          <p:cNvPicPr/>
          <p:nvPr/>
        </p:nvPicPr>
        <p:blipFill>
          <a:blip r:embed="rId7"/>
          <a:stretch/>
        </p:blipFill>
        <p:spPr>
          <a:xfrm>
            <a:off x="2666880" y="3200400"/>
            <a:ext cx="2428920" cy="33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219320" y="2438280"/>
            <a:ext cx="68580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olutio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urface Enhanced Resonance Raman Scattering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5" name="DNA" descr=""/>
          <p:cNvPicPr/>
          <p:nvPr/>
        </p:nvPicPr>
        <p:blipFill>
          <a:blip r:embed="rId2"/>
          <a:stretch/>
        </p:blipFill>
        <p:spPr>
          <a:xfrm>
            <a:off x="0" y="228600"/>
            <a:ext cx="106668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762120" y="5029200"/>
            <a:ext cx="7848360" cy="1191240"/>
          </a:xfrm>
          <a:prstGeom prst="rect">
            <a:avLst/>
          </a:prstGeom>
          <a:solidFill>
            <a:srgbClr val="8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iologically important molecules including DNA are not SERRS active and have to be labelled with SERRS active species prior to detectio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609480"/>
            <a:ext cx="7238880" cy="46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urface Enhanced Resonance Raman Scatter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quires adsorption of the species on the metal surf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ctive species have chromophores that match the laser excitation frequency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(visible laser usually used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luorescence is quench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etection limits lowered compared to other techniqu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8" name="DNA" descr=""/>
          <p:cNvPicPr/>
          <p:nvPr/>
        </p:nvPicPr>
        <p:blipFill>
          <a:blip r:embed="rId2"/>
          <a:stretch/>
        </p:blipFill>
        <p:spPr>
          <a:xfrm>
            <a:off x="0" y="152280"/>
            <a:ext cx="9144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914400" y="114300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NA has to be labelled with SERRS active spec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381240" cy="609480"/>
          </a:xfrm>
          <a:custGeom>
            <a:avLst/>
            <a:gdLst>
              <a:gd name="textAreaLeft" fmla="*/ 51120 w 381240"/>
              <a:gd name="textAreaRight" fmla="*/ 330120 w 381240"/>
              <a:gd name="textAreaTop" fmla="*/ 106560 h 609480"/>
              <a:gd name="textAreaBottom" fmla="*/ 44208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257800" y="1600200"/>
            <a:ext cx="380880" cy="685800"/>
          </a:xfrm>
          <a:custGeom>
            <a:avLst/>
            <a:gdLst>
              <a:gd name="textAreaLeft" fmla="*/ 50760 w 380880"/>
              <a:gd name="textAreaRight" fmla="*/ 330120 w 38088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057400" y="243828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iels Alder cycloaddi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35053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die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5412000">
            <a:off x="3619440" y="2781360"/>
            <a:ext cx="534960" cy="1982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019920" y="3429000"/>
            <a:ext cx="2286000" cy="685800"/>
          </a:xfrm>
          <a:prstGeom prst="can">
            <a:avLst>
              <a:gd name="adj" fmla="val 25000"/>
            </a:avLst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cycloadduc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124080" y="3505320"/>
            <a:ext cx="1752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Dienoph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514600" y="3581280"/>
            <a:ext cx="414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33520" y="4191120"/>
            <a:ext cx="236196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Not SERRS active (oligo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895480" y="4191120"/>
            <a:ext cx="228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SERRS active (benzotriazole dy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943600" y="434340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SERRS active olig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029200" y="3809880"/>
            <a:ext cx="8380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2" name="DNA" descr=""/>
          <p:cNvPicPr/>
          <p:nvPr/>
        </p:nvPicPr>
        <p:blipFill>
          <a:blip r:embed="rId2"/>
          <a:stretch/>
        </p:blipFill>
        <p:spPr>
          <a:xfrm>
            <a:off x="0" y="152280"/>
            <a:ext cx="99072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470400" y="2743200"/>
            <a:ext cx="64800" cy="1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9720" bIns="9720" anchor="t">
            <a:spAutoFit/>
          </a:bodyPr>
          <a:p>
            <a:pPr>
              <a:spcBef>
                <a:spcPts val="150"/>
              </a:spcBef>
              <a:buClr>
                <a:srgbClr val="006600"/>
              </a:buClr>
              <a:buFont typeface="Times New Roman"/>
              <a:buChar char="•"/>
              <a:tabLst>
                <a:tab algn="l" pos="192240"/>
                <a:tab algn="l" pos="384120"/>
                <a:tab algn="l" pos="576360"/>
                <a:tab algn="l" pos="768240"/>
                <a:tab algn="l" pos="960480"/>
                <a:tab algn="l" pos="1152360"/>
                <a:tab algn="l" pos="1344600"/>
                <a:tab algn="l" pos="1536840"/>
                <a:tab algn="l" pos="1728720"/>
                <a:tab algn="l" pos="1920960"/>
                <a:tab algn="l" pos="2112840"/>
                <a:tab algn="l" pos="2305080"/>
                <a:tab algn="l" pos="2496960"/>
                <a:tab algn="l" pos="2689200"/>
                <a:tab algn="l" pos="2881440"/>
                <a:tab algn="l" pos="3073320"/>
                <a:tab algn="l" pos="3265560"/>
                <a:tab algn="l" pos="3457440"/>
                <a:tab algn="l" pos="3649680"/>
                <a:tab algn="l" pos="38419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85800" y="3809880"/>
          <a:ext cx="8229600" cy="2124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3809880"/>
                    <a:ext cx="8229600" cy="212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5486400" y="42670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,</a:t>
            </a: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 DC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343400" y="434340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1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91120" y="4876920"/>
            <a:ext cx="2361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2. Co naphthenate, Ac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143000" y="457200"/>
            <a:ext cx="7620120" cy="268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SERRS active dienophile*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ists of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)  the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ccff99"/>
                </a:solidFill>
                <a:latin typeface="Times New Roman"/>
                <a:ea typeface="Times New Roman"/>
              </a:rPr>
              <a:t>benzotriazole group (BT)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 surface attachment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) the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</a:t>
            </a:r>
            <a:r>
              <a:rPr b="0" lang="en-GB" sz="2400" spc="-1" strike="noStrike">
                <a:solidFill>
                  <a:srgbClr val="ccff99"/>
                </a:solidFill>
                <a:latin typeface="Times New Roman"/>
                <a:ea typeface="Times New Roman"/>
              </a:rPr>
              <a:t>chromophore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– azo grou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) the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ccff99"/>
                </a:solidFill>
                <a:latin typeface="Times New Roman"/>
                <a:ea typeface="Times New Roman"/>
              </a:rPr>
              <a:t>maleimide group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undergo  Diels Alder reaction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62120" y="6400800"/>
            <a:ext cx="4190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1" name="DNA" descr=""/>
          <p:cNvPicPr/>
          <p:nvPr/>
        </p:nvPicPr>
        <p:blipFill>
          <a:blip r:embed="rId4"/>
          <a:stretch/>
        </p:blipFill>
        <p:spPr>
          <a:xfrm>
            <a:off x="0" y="228600"/>
            <a:ext cx="1219320" cy="13716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1752480" y="6095880"/>
            <a:ext cx="5867640" cy="459720"/>
          </a:xfrm>
          <a:prstGeom prst="rect">
            <a:avLst/>
          </a:prstGeom>
          <a:solidFill>
            <a:srgbClr val="8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4 different BT dye maleimides synthesis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" name=""/>
          <p:cNvGraphicFramePr/>
          <p:nvPr/>
        </p:nvGraphicFramePr>
        <p:xfrm>
          <a:off x="609480" y="2133720"/>
          <a:ext cx="5029200" cy="2381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2133720"/>
                    <a:ext cx="5029200" cy="23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" name=""/>
          <p:cNvSpPr/>
          <p:nvPr/>
        </p:nvSpPr>
        <p:spPr>
          <a:xfrm rot="20046000">
            <a:off x="7086240" y="2057040"/>
            <a:ext cx="291960" cy="826920"/>
          </a:xfrm>
          <a:custGeom>
            <a:avLst/>
            <a:gdLst/>
            <a:ahLst/>
            <a:rect l="l" t="t" r="r" b="b"/>
            <a:pathLst>
              <a:path w="180" h="1080">
                <a:moveTo>
                  <a:pt x="180" y="1080"/>
                </a:moveTo>
                <a:cubicBezTo>
                  <a:pt x="90" y="1020"/>
                  <a:pt x="0" y="960"/>
                  <a:pt x="0" y="900"/>
                </a:cubicBezTo>
                <a:cubicBezTo>
                  <a:pt x="0" y="840"/>
                  <a:pt x="180" y="780"/>
                  <a:pt x="180" y="720"/>
                </a:cubicBezTo>
                <a:cubicBezTo>
                  <a:pt x="180" y="660"/>
                  <a:pt x="0" y="600"/>
                  <a:pt x="0" y="540"/>
                </a:cubicBezTo>
                <a:cubicBezTo>
                  <a:pt x="0" y="480"/>
                  <a:pt x="180" y="420"/>
                  <a:pt x="180" y="360"/>
                </a:cubicBezTo>
                <a:cubicBezTo>
                  <a:pt x="180" y="300"/>
                  <a:pt x="0" y="240"/>
                  <a:pt x="0" y="180"/>
                </a:cubicBezTo>
                <a:cubicBezTo>
                  <a:pt x="0" y="120"/>
                  <a:pt x="150" y="30"/>
                  <a:pt x="180" y="0"/>
                </a:cubicBez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4876920" y="2666880"/>
          <a:ext cx="3209760" cy="13352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876920" y="2666880"/>
                    <a:ext cx="3209760" cy="133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143000" y="4273560"/>
            <a:ext cx="1066680" cy="1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ffffff"/>
                </a:solidFill>
                <a:latin typeface="Times New Roman"/>
              </a:rPr>
              <a:t>DCM</a:t>
            </a:r>
            <a:endParaRPr b="0" lang="en-US" sz="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 rot="5458800">
            <a:off x="5837040" y="2772720"/>
            <a:ext cx="108000" cy="1266840"/>
          </a:xfrm>
          <a:custGeom>
            <a:avLst/>
            <a:gdLst/>
            <a:ahLst/>
            <a:rect l="l" t="t" r="r" b="b"/>
            <a:pathLst>
              <a:path w="180" h="1080">
                <a:moveTo>
                  <a:pt x="180" y="1080"/>
                </a:moveTo>
                <a:cubicBezTo>
                  <a:pt x="90" y="1020"/>
                  <a:pt x="0" y="960"/>
                  <a:pt x="0" y="900"/>
                </a:cubicBezTo>
                <a:cubicBezTo>
                  <a:pt x="0" y="840"/>
                  <a:pt x="180" y="780"/>
                  <a:pt x="180" y="720"/>
                </a:cubicBezTo>
                <a:cubicBezTo>
                  <a:pt x="180" y="660"/>
                  <a:pt x="0" y="600"/>
                  <a:pt x="0" y="540"/>
                </a:cubicBezTo>
                <a:cubicBezTo>
                  <a:pt x="0" y="480"/>
                  <a:pt x="180" y="420"/>
                  <a:pt x="180" y="360"/>
                </a:cubicBezTo>
                <a:cubicBezTo>
                  <a:pt x="180" y="300"/>
                  <a:pt x="0" y="240"/>
                  <a:pt x="0" y="180"/>
                </a:cubicBezTo>
                <a:cubicBezTo>
                  <a:pt x="0" y="120"/>
                  <a:pt x="150" y="30"/>
                  <a:pt x="180" y="0"/>
                </a:cubicBez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828800" y="4265640"/>
            <a:ext cx="7603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ffffff"/>
                </a:solidFill>
                <a:latin typeface="Times New Roman"/>
              </a:rPr>
              <a:t>2.</a:t>
            </a: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800600" y="25909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CDI, DMF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666880" y="4186080"/>
            <a:ext cx="5040" cy="3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914400" y="304920"/>
            <a:ext cx="7238880" cy="16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Oligonucleotide die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2 base synthetic oligo used - 5’TCTCAACTCG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dified with furan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vi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amino lin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4" name="DNA" descr=""/>
          <p:cNvPicPr/>
          <p:nvPr/>
        </p:nvPicPr>
        <p:blipFill>
          <a:blip r:embed="rId6"/>
          <a:stretch/>
        </p:blipFill>
        <p:spPr>
          <a:xfrm>
            <a:off x="0" y="228600"/>
            <a:ext cx="990720" cy="1371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762120" y="4419720"/>
            <a:ext cx="784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odifed with butadiene phosphoramidate during automated synthes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2743200" y="5638680"/>
          <a:ext cx="5715000" cy="639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743200" y="5638680"/>
                    <a:ext cx="5715000" cy="63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8" name=""/>
          <p:cNvGraphicFramePr/>
          <p:nvPr/>
        </p:nvGraphicFramePr>
        <p:xfrm>
          <a:off x="2394000" y="5326200"/>
          <a:ext cx="5958000" cy="13874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394000" y="5326200"/>
                    <a:ext cx="5958000" cy="138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 flipV="1" rot="5458800">
            <a:off x="2865240" y="5058720"/>
            <a:ext cx="108000" cy="1266840"/>
          </a:xfrm>
          <a:custGeom>
            <a:avLst/>
            <a:gdLst/>
            <a:ahLst/>
            <a:rect l="l" t="t" r="r" b="b"/>
            <a:pathLst>
              <a:path w="180" h="1080">
                <a:moveTo>
                  <a:pt x="180" y="1080"/>
                </a:moveTo>
                <a:cubicBezTo>
                  <a:pt x="90" y="1020"/>
                  <a:pt x="0" y="960"/>
                  <a:pt x="0" y="900"/>
                </a:cubicBezTo>
                <a:cubicBezTo>
                  <a:pt x="0" y="840"/>
                  <a:pt x="180" y="780"/>
                  <a:pt x="180" y="720"/>
                </a:cubicBezTo>
                <a:cubicBezTo>
                  <a:pt x="180" y="660"/>
                  <a:pt x="0" y="600"/>
                  <a:pt x="0" y="540"/>
                </a:cubicBezTo>
                <a:cubicBezTo>
                  <a:pt x="0" y="480"/>
                  <a:pt x="180" y="420"/>
                  <a:pt x="180" y="360"/>
                </a:cubicBezTo>
                <a:cubicBezTo>
                  <a:pt x="180" y="300"/>
                  <a:pt x="0" y="240"/>
                  <a:pt x="0" y="180"/>
                </a:cubicBezTo>
                <a:cubicBezTo>
                  <a:pt x="0" y="120"/>
                  <a:pt x="150" y="30"/>
                  <a:pt x="180" y="0"/>
                </a:cubicBez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3429000" y="5562720"/>
          <a:ext cx="1447920" cy="2761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429000" y="5562720"/>
                    <a:ext cx="1447920" cy="27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905120" y="2286000"/>
            <a:ext cx="447480" cy="380880"/>
          </a:xfrm>
          <a:prstGeom prst="flowChartConnector">
            <a:avLst/>
          </a:prstGeom>
          <a:solidFill>
            <a:srgbClr val="ffff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 rot="1815000">
            <a:off x="4038120" y="1447920"/>
            <a:ext cx="366840" cy="1218960"/>
          </a:xfrm>
          <a:custGeom>
            <a:avLst/>
            <a:gdLst/>
            <a:ahLst/>
            <a:rect l="l" t="t" r="r" b="b"/>
            <a:pathLst>
              <a:path w="180" h="1080">
                <a:moveTo>
                  <a:pt x="180" y="1080"/>
                </a:moveTo>
                <a:cubicBezTo>
                  <a:pt x="90" y="1020"/>
                  <a:pt x="0" y="960"/>
                  <a:pt x="0" y="900"/>
                </a:cubicBezTo>
                <a:cubicBezTo>
                  <a:pt x="0" y="840"/>
                  <a:pt x="180" y="780"/>
                  <a:pt x="180" y="720"/>
                </a:cubicBezTo>
                <a:cubicBezTo>
                  <a:pt x="180" y="660"/>
                  <a:pt x="0" y="600"/>
                  <a:pt x="0" y="540"/>
                </a:cubicBezTo>
                <a:cubicBezTo>
                  <a:pt x="0" y="480"/>
                  <a:pt x="180" y="420"/>
                  <a:pt x="180" y="360"/>
                </a:cubicBezTo>
                <a:cubicBezTo>
                  <a:pt x="180" y="300"/>
                  <a:pt x="0" y="240"/>
                  <a:pt x="0" y="180"/>
                </a:cubicBezTo>
                <a:cubicBezTo>
                  <a:pt x="0" y="120"/>
                  <a:pt x="150" y="30"/>
                  <a:pt x="180" y="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00400" y="2438280"/>
            <a:ext cx="563400" cy="2192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rot="12367200">
            <a:off x="6180840" y="1296360"/>
            <a:ext cx="295560" cy="1143000"/>
          </a:xfrm>
          <a:custGeom>
            <a:avLst/>
            <a:gdLst/>
            <a:ahLst/>
            <a:rect l="l" t="t" r="r" b="b"/>
            <a:pathLst>
              <a:path w="180" h="1080">
                <a:moveTo>
                  <a:pt x="180" y="1080"/>
                </a:moveTo>
                <a:cubicBezTo>
                  <a:pt x="90" y="1020"/>
                  <a:pt x="0" y="960"/>
                  <a:pt x="0" y="900"/>
                </a:cubicBezTo>
                <a:cubicBezTo>
                  <a:pt x="0" y="840"/>
                  <a:pt x="180" y="780"/>
                  <a:pt x="180" y="720"/>
                </a:cubicBezTo>
                <a:cubicBezTo>
                  <a:pt x="180" y="660"/>
                  <a:pt x="0" y="600"/>
                  <a:pt x="0" y="540"/>
                </a:cubicBezTo>
                <a:cubicBezTo>
                  <a:pt x="0" y="480"/>
                  <a:pt x="180" y="420"/>
                  <a:pt x="180" y="360"/>
                </a:cubicBezTo>
                <a:cubicBezTo>
                  <a:pt x="180" y="300"/>
                  <a:pt x="0" y="240"/>
                  <a:pt x="0" y="180"/>
                </a:cubicBezTo>
                <a:cubicBezTo>
                  <a:pt x="0" y="120"/>
                  <a:pt x="150" y="30"/>
                  <a:pt x="180" y="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638680" y="2286000"/>
            <a:ext cx="447840" cy="409680"/>
          </a:xfrm>
          <a:prstGeom prst="flowChartConnector">
            <a:avLst/>
          </a:prstGeom>
          <a:solidFill>
            <a:srgbClr val="8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590920" y="236232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343400" y="2438280"/>
            <a:ext cx="900000" cy="5040"/>
          </a:xfrm>
          <a:prstGeom prst="line">
            <a:avLst/>
          </a:prstGeom>
          <a:ln w="64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324480" y="3809880"/>
            <a:ext cx="2590920" cy="7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1 Oligo fura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2 Oligo cycloadduct</a:t>
            </a:r>
            <a:r>
              <a:rPr b="0" lang="en-GB" sz="5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62120" y="0"/>
            <a:ext cx="8153280" cy="153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Diels Alder Cycloaddition of the Dye 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Oligonucleoti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n phosphate buffer (pH = 5.5), 30% CH</a:t>
            </a:r>
            <a:r>
              <a:rPr b="0" lang="en-US" sz="2000" spc="-1" strike="noStrike" baseline="-30000">
                <a:solidFill>
                  <a:srgbClr val="ffff00"/>
                </a:solidFill>
                <a:latin typeface="Times New Roman"/>
                <a:ea typeface="Times New Roman"/>
              </a:rPr>
              <a:t>3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N, 40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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2743200" y="2895480"/>
          <a:ext cx="3971880" cy="36864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43200" y="2895480"/>
                    <a:ext cx="3971880" cy="36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" name=""/>
          <p:cNvSpPr/>
          <p:nvPr/>
        </p:nvSpPr>
        <p:spPr>
          <a:xfrm>
            <a:off x="685800" y="31240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HPLC tr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rot="5335800">
            <a:off x="1294920" y="3809880"/>
            <a:ext cx="838080" cy="533160"/>
          </a:xfrm>
          <a:custGeom>
            <a:avLst/>
            <a:gdLst>
              <a:gd name="textAreaLeft" fmla="*/ 279360 w 838080"/>
              <a:gd name="textAreaRight" fmla="*/ 717840 w 838080"/>
              <a:gd name="textAreaTop" fmla="*/ 307080 h 533160"/>
              <a:gd name="textAreaBottom" fmla="*/ 45684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6" name="DNA" descr=""/>
          <p:cNvPicPr/>
          <p:nvPr/>
        </p:nvPicPr>
        <p:blipFill>
          <a:blip r:embed="rId5"/>
          <a:stretch/>
        </p:blipFill>
        <p:spPr>
          <a:xfrm>
            <a:off x="0" y="380880"/>
            <a:ext cx="99072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3809880"/>
            <a:ext cx="175248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rot="1489800">
            <a:off x="685440" y="762120"/>
            <a:ext cx="1295280" cy="685800"/>
          </a:xfrm>
          <a:prstGeom prst="lightningBol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3124080" y="3505320"/>
            <a:ext cx="1371600" cy="7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219320" y="3733920"/>
            <a:ext cx="1752480" cy="7596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1371600" y="1828800"/>
            <a:ext cx="1371600" cy="1905120"/>
            <a:chOff x="1371600" y="1828800"/>
            <a:chExt cx="1371600" cy="1905120"/>
          </a:xfrm>
        </p:grpSpPr>
        <p:sp>
          <p:nvSpPr>
            <p:cNvPr id="132" name=""/>
            <p:cNvSpPr/>
            <p:nvPr/>
          </p:nvSpPr>
          <p:spPr>
            <a:xfrm>
              <a:off x="1371600" y="1828800"/>
              <a:ext cx="304920" cy="1523880"/>
            </a:xfrm>
            <a:custGeom>
              <a:avLst/>
              <a:gdLst/>
              <a:ahLst/>
              <a:rect l="l" t="t" r="r" b="b"/>
              <a:pathLst>
                <a:path w="180" h="1080">
                  <a:moveTo>
                    <a:pt x="180" y="1080"/>
                  </a:moveTo>
                  <a:cubicBezTo>
                    <a:pt x="90" y="1020"/>
                    <a:pt x="0" y="960"/>
                    <a:pt x="0" y="900"/>
                  </a:cubicBezTo>
                  <a:cubicBezTo>
                    <a:pt x="0" y="840"/>
                    <a:pt x="180" y="780"/>
                    <a:pt x="180" y="720"/>
                  </a:cubicBezTo>
                  <a:cubicBezTo>
                    <a:pt x="180" y="660"/>
                    <a:pt x="0" y="600"/>
                    <a:pt x="0" y="540"/>
                  </a:cubicBezTo>
                  <a:cubicBezTo>
                    <a:pt x="0" y="480"/>
                    <a:pt x="180" y="420"/>
                    <a:pt x="180" y="360"/>
                  </a:cubicBezTo>
                  <a:cubicBezTo>
                    <a:pt x="180" y="300"/>
                    <a:pt x="0" y="240"/>
                    <a:pt x="0" y="180"/>
                  </a:cubicBezTo>
                  <a:cubicBezTo>
                    <a:pt x="0" y="120"/>
                    <a:pt x="150" y="30"/>
                    <a:pt x="180" y="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286000" y="1828800"/>
              <a:ext cx="228600" cy="1523880"/>
            </a:xfrm>
            <a:custGeom>
              <a:avLst/>
              <a:gdLst/>
              <a:ahLst/>
              <a:rect l="l" t="t" r="r" b="b"/>
              <a:pathLst>
                <a:path w="180" h="1080">
                  <a:moveTo>
                    <a:pt x="180" y="1080"/>
                  </a:moveTo>
                  <a:cubicBezTo>
                    <a:pt x="90" y="1020"/>
                    <a:pt x="0" y="960"/>
                    <a:pt x="0" y="900"/>
                  </a:cubicBezTo>
                  <a:cubicBezTo>
                    <a:pt x="0" y="840"/>
                    <a:pt x="180" y="780"/>
                    <a:pt x="180" y="720"/>
                  </a:cubicBezTo>
                  <a:cubicBezTo>
                    <a:pt x="180" y="660"/>
                    <a:pt x="0" y="600"/>
                    <a:pt x="0" y="540"/>
                  </a:cubicBezTo>
                  <a:cubicBezTo>
                    <a:pt x="0" y="480"/>
                    <a:pt x="180" y="420"/>
                    <a:pt x="180" y="360"/>
                  </a:cubicBezTo>
                  <a:cubicBezTo>
                    <a:pt x="180" y="300"/>
                    <a:pt x="0" y="240"/>
                    <a:pt x="0" y="180"/>
                  </a:cubicBezTo>
                  <a:cubicBezTo>
                    <a:pt x="0" y="120"/>
                    <a:pt x="150" y="30"/>
                    <a:pt x="180" y="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447920" y="3352680"/>
              <a:ext cx="380880" cy="381240"/>
            </a:xfrm>
            <a:prstGeom prst="flowChartConnector">
              <a:avLst/>
            </a:prstGeom>
            <a:solidFill>
              <a:srgbClr val="808000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362320" y="3352680"/>
              <a:ext cx="380880" cy="381240"/>
            </a:xfrm>
            <a:prstGeom prst="flowChartConnector">
              <a:avLst/>
            </a:prstGeom>
            <a:solidFill>
              <a:srgbClr val="808000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6" name=""/>
          <p:cNvSpPr/>
          <p:nvPr/>
        </p:nvSpPr>
        <p:spPr>
          <a:xfrm>
            <a:off x="1828800" y="4114800"/>
            <a:ext cx="380880" cy="533520"/>
          </a:xfrm>
          <a:prstGeom prst="downArrow">
            <a:avLst>
              <a:gd name="adj1" fmla="val 50000"/>
              <a:gd name="adj2" fmla="val 35019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295280" y="480060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g -PVA dis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4724280" y="1523880"/>
          <a:ext cx="4027680" cy="41911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724280" y="1523880"/>
                    <a:ext cx="4027680" cy="41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0" name="DNA" descr=""/>
          <p:cNvPicPr/>
          <p:nvPr/>
        </p:nvPicPr>
        <p:blipFill>
          <a:blip r:embed="rId4"/>
          <a:stretch/>
        </p:blipFill>
        <p:spPr>
          <a:xfrm>
            <a:off x="0" y="152280"/>
            <a:ext cx="914400" cy="13716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1905120" y="457200"/>
            <a:ext cx="533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SERRS Detection of Labelled Olig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029200" y="586728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105520" y="6019920"/>
            <a:ext cx="3200400" cy="459720"/>
          </a:xfrm>
          <a:prstGeom prst="rect">
            <a:avLst/>
          </a:prstGeom>
          <a:solidFill>
            <a:srgbClr val="808000"/>
          </a:solidFill>
          <a:ln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tected in 10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-17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mo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4T18:49:49Z</dcterms:created>
  <dc:creator>Dr Duncan Graham</dc:creator>
  <dc:description/>
  <dc:language>en-US</dc:language>
  <cp:lastModifiedBy>Duncan Graham</cp:lastModifiedBy>
  <dcterms:modified xsi:type="dcterms:W3CDTF">2003-06-18T09:51:24Z</dcterms:modified>
  <cp:revision>52</cp:revision>
  <dc:subject/>
  <dc:title>PowerPoint Presentation</dc:title>
</cp:coreProperties>
</file>